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gif" ContentType="image/gif"/>
  <Override PartName="/ppt/media/image26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4.jpeg" ContentType="image/jpeg"/>
  <Override PartName="/ppt/media/image19.gif" ContentType="image/gif"/>
  <Override PartName="/ppt/media/image5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2.png" ContentType="image/png"/>
  <Override PartName="/ppt/media/image25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441-3771-402C-8B17-5238E630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0DA-94ED-416F-A0CF-CC00B8C8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E160-FA19-43E7-964D-9F6140A3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C50-B4BA-42C9-BCD2-28E81E8D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BE39-3258-47E8-9F3C-791753DA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06B7-8BBC-4379-A8C2-54034C56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2E89-77FB-4D0E-9094-66DC845F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58DE-4E2B-4A3C-AEDC-67CA1B88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9872-24C1-4F6B-8C9D-96EA2C39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FC7E-3CFC-4758-98B1-EED64C52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CBA9-7CAE-4F00-9D06-A802B415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397-7DBC-43D3-9E16-9749740C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274C-B7AE-40C4-B2ED-BB5D4911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51AE-D093-43B2-B8E0-9B7D33A7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5DF6-C84A-4DAA-B78B-FBEF02B4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E4E6-6851-4340-B891-FAFC381B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0C58-5B3C-4313-AFC6-09C14C73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A7923-44AB-4833-91A0-EA27CCE6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6E1B9-40C7-4B42-8CD8-B9976DF4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FBAE7-EADB-417A-9E28-682AD294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05407-4033-4127-8B34-A6628461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251BA-B837-4496-BB76-C62FF5E0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0D0-A911-4041-938F-6E933327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408A5-71AC-4452-B5A4-7742D5F0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AB3BC-1E8F-41CC-B7AA-B42E3484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91D67-3177-424B-BFDA-E6647DE7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1887B-8DC9-431C-9213-7D7E8B84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A6496-C318-4A16-BCA7-23B9D46F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129E0-06B0-4F2A-B8CC-14783E9A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700C9-7613-4DFB-992B-1E394253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4CB-C030-43BD-B2B1-2E359038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065C-B237-423F-A493-C41E8D2D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2CF-BE6C-420C-B4BD-4ADD164F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511-D622-4485-B0D7-2738E9EC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D90-029B-43EE-8F41-C818C90A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78D0-E148-474E-8F05-7AB035FB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30BB-8883-4ABA-9E93-C2D5D022A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226C-4B0A-4591-91A6-93D479F94682}" type="slidenum">
              <a:rPr b="0" lang="en-US" sz="1400" spc="-1" strike="noStrike">
                <a:solidFill>
                  <a:srgbClr val="ffffe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A6E7-2C47-4964-94DE-36A7CD916A01}" type="slidenum">
              <a:rPr b="0" lang="en-US" sz="1400" spc="-1" strike="noStrike">
                <a:solidFill>
                  <a:srgbClr val="00264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file:///tmp/home/.config/libreoffice/4/user/gallery/MTP_009.WAV" TargetMode="External"/><Relationship Id="rId3" Type="http://schemas.microsoft.com/office/2007/relationships/media" Target="file:///tmp/home/.config/libreoffice/4/user/gallery/MTP_009.WAV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835280" y="3076560"/>
            <a:ext cx="3744720" cy="3781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905440" cy="3816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611280" y="1557360"/>
            <a:ext cx="7315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华文彩云"/>
              </a:rPr>
              <a:t>27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华文彩云"/>
              </a:rPr>
              <a:t>、两只小狮子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7" name=""/>
          <p:cNvSpPr/>
          <p:nvPr/>
        </p:nvSpPr>
        <p:spPr>
          <a:xfrm>
            <a:off x="5208840" y="616572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农二师二十一团中学   张建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4038480" cy="3781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676520" y="236232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3399"/>
                </a:solidFill>
                <a:latin typeface="Times New Roman"/>
              </a:rPr>
              <a:t>另一只却</a:t>
            </a:r>
            <a:r>
              <a:rPr b="1" lang="zh-CN" sz="6000" spc="-1" strike="noStrike">
                <a:solidFill>
                  <a:srgbClr val="0066ff"/>
                </a:solidFill>
                <a:latin typeface="Times New Roman"/>
              </a:rPr>
              <a:t>懒洋洋</a:t>
            </a:r>
            <a:r>
              <a:rPr b="1" lang="zh-CN" sz="6000" spc="-1" strike="noStrike">
                <a:solidFill>
                  <a:srgbClr val="ff3399"/>
                </a:solidFill>
                <a:latin typeface="Times New Roman"/>
              </a:rPr>
              <a:t>地晒太阳，什么也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不干</a:t>
            </a:r>
            <a:r>
              <a:rPr b="1" lang="zh-CN" sz="6000" spc="-1" strike="noStrike">
                <a:solidFill>
                  <a:srgbClr val="ff3399"/>
                </a:solidFill>
                <a:latin typeface="Times New Roman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未知"/>
          <p:cNvSpPr/>
          <p:nvPr/>
        </p:nvSpPr>
        <p:spPr>
          <a:xfrm>
            <a:off x="6238800" y="133200"/>
            <a:ext cx="2649600" cy="2076480"/>
          </a:xfrm>
          <a:custGeom>
            <a:avLst/>
            <a:gdLst/>
            <a:ahLst/>
            <a:rect l="l" t="t" r="r" b="b"/>
            <a:pathLst>
              <a:path w="1669" h="1308">
                <a:moveTo>
                  <a:pt x="1374" y="0"/>
                </a:moveTo>
                <a:cubicBezTo>
                  <a:pt x="1378" y="112"/>
                  <a:pt x="1375" y="224"/>
                  <a:pt x="1386" y="336"/>
                </a:cubicBezTo>
                <a:cubicBezTo>
                  <a:pt x="1390" y="373"/>
                  <a:pt x="1522" y="495"/>
                  <a:pt x="1554" y="516"/>
                </a:cubicBezTo>
                <a:cubicBezTo>
                  <a:pt x="1566" y="536"/>
                  <a:pt x="1574" y="560"/>
                  <a:pt x="1590" y="576"/>
                </a:cubicBezTo>
                <a:cubicBezTo>
                  <a:pt x="1610" y="596"/>
                  <a:pt x="1647" y="599"/>
                  <a:pt x="1662" y="624"/>
                </a:cubicBezTo>
                <a:cubicBezTo>
                  <a:pt x="1669" y="635"/>
                  <a:pt x="1639" y="634"/>
                  <a:pt x="1626" y="636"/>
                </a:cubicBezTo>
                <a:cubicBezTo>
                  <a:pt x="1586" y="642"/>
                  <a:pt x="1546" y="644"/>
                  <a:pt x="1506" y="648"/>
                </a:cubicBezTo>
                <a:cubicBezTo>
                  <a:pt x="1442" y="744"/>
                  <a:pt x="1526" y="628"/>
                  <a:pt x="1446" y="708"/>
                </a:cubicBezTo>
                <a:cubicBezTo>
                  <a:pt x="1412" y="742"/>
                  <a:pt x="1401" y="796"/>
                  <a:pt x="1386" y="840"/>
                </a:cubicBezTo>
                <a:cubicBezTo>
                  <a:pt x="1382" y="876"/>
                  <a:pt x="1378" y="912"/>
                  <a:pt x="1374" y="948"/>
                </a:cubicBezTo>
                <a:cubicBezTo>
                  <a:pt x="1370" y="980"/>
                  <a:pt x="1380" y="1017"/>
                  <a:pt x="1362" y="1044"/>
                </a:cubicBezTo>
                <a:cubicBezTo>
                  <a:pt x="1354" y="1056"/>
                  <a:pt x="1338" y="1028"/>
                  <a:pt x="1326" y="1020"/>
                </a:cubicBezTo>
                <a:cubicBezTo>
                  <a:pt x="1194" y="1035"/>
                  <a:pt x="1153" y="1039"/>
                  <a:pt x="1050" y="1116"/>
                </a:cubicBezTo>
                <a:cubicBezTo>
                  <a:pt x="1016" y="1219"/>
                  <a:pt x="1068" y="1055"/>
                  <a:pt x="1026" y="1224"/>
                </a:cubicBezTo>
                <a:cubicBezTo>
                  <a:pt x="1020" y="1249"/>
                  <a:pt x="1002" y="1296"/>
                  <a:pt x="1002" y="1296"/>
                </a:cubicBezTo>
                <a:cubicBezTo>
                  <a:pt x="973" y="1282"/>
                  <a:pt x="947" y="1261"/>
                  <a:pt x="918" y="1248"/>
                </a:cubicBezTo>
                <a:cubicBezTo>
                  <a:pt x="895" y="1238"/>
                  <a:pt x="846" y="1224"/>
                  <a:pt x="846" y="1224"/>
                </a:cubicBezTo>
                <a:cubicBezTo>
                  <a:pt x="666" y="1244"/>
                  <a:pt x="653" y="1213"/>
                  <a:pt x="558" y="1308"/>
                </a:cubicBezTo>
                <a:cubicBezTo>
                  <a:pt x="524" y="1263"/>
                  <a:pt x="502" y="1204"/>
                  <a:pt x="462" y="1164"/>
                </a:cubicBezTo>
                <a:cubicBezTo>
                  <a:pt x="416" y="1118"/>
                  <a:pt x="342" y="1104"/>
                  <a:pt x="282" y="1092"/>
                </a:cubicBezTo>
                <a:cubicBezTo>
                  <a:pt x="202" y="1096"/>
                  <a:pt x="111" y="1144"/>
                  <a:pt x="42" y="1104"/>
                </a:cubicBezTo>
                <a:cubicBezTo>
                  <a:pt x="0" y="1080"/>
                  <a:pt x="45" y="1007"/>
                  <a:pt x="54" y="960"/>
                </a:cubicBezTo>
                <a:cubicBezTo>
                  <a:pt x="62" y="918"/>
                  <a:pt x="100" y="869"/>
                  <a:pt x="114" y="828"/>
                </a:cubicBezTo>
                <a:cubicBezTo>
                  <a:pt x="124" y="797"/>
                  <a:pt x="130" y="764"/>
                  <a:pt x="138" y="732"/>
                </a:cubicBezTo>
                <a:cubicBezTo>
                  <a:pt x="142" y="716"/>
                  <a:pt x="150" y="684"/>
                  <a:pt x="150" y="684"/>
                </a:cubicBezTo>
                <a:cubicBezTo>
                  <a:pt x="146" y="628"/>
                  <a:pt x="152" y="570"/>
                  <a:pt x="138" y="516"/>
                </a:cubicBezTo>
                <a:cubicBezTo>
                  <a:pt x="126" y="469"/>
                  <a:pt x="56" y="398"/>
                  <a:pt x="18" y="372"/>
                </a:cubicBezTo>
                <a:cubicBezTo>
                  <a:pt x="30" y="368"/>
                  <a:pt x="41" y="362"/>
                  <a:pt x="54" y="360"/>
                </a:cubicBezTo>
                <a:cubicBezTo>
                  <a:pt x="94" y="354"/>
                  <a:pt x="135" y="356"/>
                  <a:pt x="174" y="348"/>
                </a:cubicBezTo>
                <a:cubicBezTo>
                  <a:pt x="204" y="342"/>
                  <a:pt x="229" y="322"/>
                  <a:pt x="258" y="312"/>
                </a:cubicBezTo>
                <a:cubicBezTo>
                  <a:pt x="301" y="269"/>
                  <a:pt x="321" y="230"/>
                  <a:pt x="354" y="180"/>
                </a:cubicBezTo>
                <a:cubicBezTo>
                  <a:pt x="365" y="125"/>
                  <a:pt x="372" y="94"/>
                  <a:pt x="402" y="48"/>
                </a:cubicBezTo>
                <a:cubicBezTo>
                  <a:pt x="476" y="85"/>
                  <a:pt x="525" y="153"/>
                  <a:pt x="606" y="180"/>
                </a:cubicBezTo>
                <a:cubicBezTo>
                  <a:pt x="682" y="176"/>
                  <a:pt x="759" y="182"/>
                  <a:pt x="834" y="168"/>
                </a:cubicBezTo>
                <a:cubicBezTo>
                  <a:pt x="885" y="159"/>
                  <a:pt x="918" y="36"/>
                  <a:pt x="918" y="36"/>
                </a:cubicBezTo>
                <a:cubicBezTo>
                  <a:pt x="930" y="48"/>
                  <a:pt x="945" y="58"/>
                  <a:pt x="954" y="72"/>
                </a:cubicBezTo>
                <a:cubicBezTo>
                  <a:pt x="993" y="131"/>
                  <a:pt x="933" y="87"/>
                  <a:pt x="990" y="144"/>
                </a:cubicBezTo>
                <a:cubicBezTo>
                  <a:pt x="1007" y="161"/>
                  <a:pt x="1055" y="183"/>
                  <a:pt x="1074" y="192"/>
                </a:cubicBezTo>
                <a:cubicBezTo>
                  <a:pt x="1154" y="188"/>
                  <a:pt x="1235" y="194"/>
                  <a:pt x="1314" y="180"/>
                </a:cubicBezTo>
                <a:cubicBezTo>
                  <a:pt x="1328" y="177"/>
                  <a:pt x="1332" y="157"/>
                  <a:pt x="1338" y="144"/>
                </a:cubicBezTo>
                <a:cubicBezTo>
                  <a:pt x="1356" y="103"/>
                  <a:pt x="1374" y="45"/>
                  <a:pt x="1374" y="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457200"/>
            <a:ext cx="1676520" cy="1523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31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195640" y="1844640"/>
            <a:ext cx="7991280" cy="37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懒洋洋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地  （　　　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笑眯眯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地  （　　　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（　　）地（　　　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6804000" y="-166680"/>
            <a:ext cx="2649600" cy="2071800"/>
          </a:xfrm>
          <a:custGeom>
            <a:avLst/>
            <a:gdLst/>
            <a:ahLst/>
            <a:rect l="l" t="t" r="r" b="b"/>
            <a:pathLst>
              <a:path w="1669" h="1308">
                <a:moveTo>
                  <a:pt x="1374" y="0"/>
                </a:moveTo>
                <a:cubicBezTo>
                  <a:pt x="1378" y="112"/>
                  <a:pt x="1375" y="224"/>
                  <a:pt x="1386" y="336"/>
                </a:cubicBezTo>
                <a:cubicBezTo>
                  <a:pt x="1390" y="373"/>
                  <a:pt x="1522" y="495"/>
                  <a:pt x="1554" y="516"/>
                </a:cubicBezTo>
                <a:cubicBezTo>
                  <a:pt x="1566" y="536"/>
                  <a:pt x="1574" y="560"/>
                  <a:pt x="1590" y="576"/>
                </a:cubicBezTo>
                <a:cubicBezTo>
                  <a:pt x="1610" y="596"/>
                  <a:pt x="1647" y="599"/>
                  <a:pt x="1662" y="624"/>
                </a:cubicBezTo>
                <a:cubicBezTo>
                  <a:pt x="1669" y="635"/>
                  <a:pt x="1639" y="634"/>
                  <a:pt x="1626" y="636"/>
                </a:cubicBezTo>
                <a:cubicBezTo>
                  <a:pt x="1586" y="642"/>
                  <a:pt x="1546" y="644"/>
                  <a:pt x="1506" y="648"/>
                </a:cubicBezTo>
                <a:cubicBezTo>
                  <a:pt x="1442" y="744"/>
                  <a:pt x="1526" y="628"/>
                  <a:pt x="1446" y="708"/>
                </a:cubicBezTo>
                <a:cubicBezTo>
                  <a:pt x="1412" y="742"/>
                  <a:pt x="1401" y="796"/>
                  <a:pt x="1386" y="840"/>
                </a:cubicBezTo>
                <a:cubicBezTo>
                  <a:pt x="1382" y="876"/>
                  <a:pt x="1378" y="912"/>
                  <a:pt x="1374" y="948"/>
                </a:cubicBezTo>
                <a:cubicBezTo>
                  <a:pt x="1370" y="980"/>
                  <a:pt x="1380" y="1017"/>
                  <a:pt x="1362" y="1044"/>
                </a:cubicBezTo>
                <a:cubicBezTo>
                  <a:pt x="1354" y="1056"/>
                  <a:pt x="1338" y="1028"/>
                  <a:pt x="1326" y="1020"/>
                </a:cubicBezTo>
                <a:cubicBezTo>
                  <a:pt x="1194" y="1035"/>
                  <a:pt x="1153" y="1039"/>
                  <a:pt x="1050" y="1116"/>
                </a:cubicBezTo>
                <a:cubicBezTo>
                  <a:pt x="1016" y="1219"/>
                  <a:pt x="1068" y="1055"/>
                  <a:pt x="1026" y="1224"/>
                </a:cubicBezTo>
                <a:cubicBezTo>
                  <a:pt x="1020" y="1249"/>
                  <a:pt x="1002" y="1296"/>
                  <a:pt x="1002" y="1296"/>
                </a:cubicBezTo>
                <a:cubicBezTo>
                  <a:pt x="973" y="1282"/>
                  <a:pt x="947" y="1261"/>
                  <a:pt x="918" y="1248"/>
                </a:cubicBezTo>
                <a:cubicBezTo>
                  <a:pt x="895" y="1238"/>
                  <a:pt x="846" y="1224"/>
                  <a:pt x="846" y="1224"/>
                </a:cubicBezTo>
                <a:cubicBezTo>
                  <a:pt x="666" y="1244"/>
                  <a:pt x="653" y="1213"/>
                  <a:pt x="558" y="1308"/>
                </a:cubicBezTo>
                <a:cubicBezTo>
                  <a:pt x="524" y="1263"/>
                  <a:pt x="502" y="1204"/>
                  <a:pt x="462" y="1164"/>
                </a:cubicBezTo>
                <a:cubicBezTo>
                  <a:pt x="416" y="1118"/>
                  <a:pt x="342" y="1104"/>
                  <a:pt x="282" y="1092"/>
                </a:cubicBezTo>
                <a:cubicBezTo>
                  <a:pt x="202" y="1096"/>
                  <a:pt x="111" y="1144"/>
                  <a:pt x="42" y="1104"/>
                </a:cubicBezTo>
                <a:cubicBezTo>
                  <a:pt x="0" y="1080"/>
                  <a:pt x="45" y="1007"/>
                  <a:pt x="54" y="960"/>
                </a:cubicBezTo>
                <a:cubicBezTo>
                  <a:pt x="62" y="918"/>
                  <a:pt x="100" y="869"/>
                  <a:pt x="114" y="828"/>
                </a:cubicBezTo>
                <a:cubicBezTo>
                  <a:pt x="124" y="797"/>
                  <a:pt x="130" y="764"/>
                  <a:pt x="138" y="732"/>
                </a:cubicBezTo>
                <a:cubicBezTo>
                  <a:pt x="142" y="716"/>
                  <a:pt x="150" y="684"/>
                  <a:pt x="150" y="684"/>
                </a:cubicBezTo>
                <a:cubicBezTo>
                  <a:pt x="146" y="628"/>
                  <a:pt x="152" y="570"/>
                  <a:pt x="138" y="516"/>
                </a:cubicBezTo>
                <a:cubicBezTo>
                  <a:pt x="126" y="469"/>
                  <a:pt x="56" y="398"/>
                  <a:pt x="18" y="372"/>
                </a:cubicBezTo>
                <a:cubicBezTo>
                  <a:pt x="30" y="368"/>
                  <a:pt x="41" y="362"/>
                  <a:pt x="54" y="360"/>
                </a:cubicBezTo>
                <a:cubicBezTo>
                  <a:pt x="94" y="354"/>
                  <a:pt x="135" y="356"/>
                  <a:pt x="174" y="348"/>
                </a:cubicBezTo>
                <a:cubicBezTo>
                  <a:pt x="204" y="342"/>
                  <a:pt x="229" y="322"/>
                  <a:pt x="258" y="312"/>
                </a:cubicBezTo>
                <a:cubicBezTo>
                  <a:pt x="301" y="269"/>
                  <a:pt x="321" y="230"/>
                  <a:pt x="354" y="180"/>
                </a:cubicBezTo>
                <a:cubicBezTo>
                  <a:pt x="365" y="125"/>
                  <a:pt x="372" y="94"/>
                  <a:pt x="402" y="48"/>
                </a:cubicBezTo>
                <a:cubicBezTo>
                  <a:pt x="476" y="85"/>
                  <a:pt x="525" y="153"/>
                  <a:pt x="606" y="180"/>
                </a:cubicBezTo>
                <a:cubicBezTo>
                  <a:pt x="682" y="176"/>
                  <a:pt x="759" y="182"/>
                  <a:pt x="834" y="168"/>
                </a:cubicBezTo>
                <a:cubicBezTo>
                  <a:pt x="885" y="159"/>
                  <a:pt x="918" y="36"/>
                  <a:pt x="918" y="36"/>
                </a:cubicBezTo>
                <a:cubicBezTo>
                  <a:pt x="930" y="48"/>
                  <a:pt x="945" y="58"/>
                  <a:pt x="954" y="72"/>
                </a:cubicBezTo>
                <a:cubicBezTo>
                  <a:pt x="993" y="131"/>
                  <a:pt x="933" y="87"/>
                  <a:pt x="990" y="144"/>
                </a:cubicBezTo>
                <a:cubicBezTo>
                  <a:pt x="1007" y="161"/>
                  <a:pt x="1055" y="183"/>
                  <a:pt x="1074" y="192"/>
                </a:cubicBezTo>
                <a:cubicBezTo>
                  <a:pt x="1154" y="188"/>
                  <a:pt x="1235" y="194"/>
                  <a:pt x="1314" y="180"/>
                </a:cubicBezTo>
                <a:cubicBezTo>
                  <a:pt x="1328" y="177"/>
                  <a:pt x="1332" y="157"/>
                  <a:pt x="1338" y="144"/>
                </a:cubicBezTo>
                <a:cubicBezTo>
                  <a:pt x="1356" y="103"/>
                  <a:pt x="1374" y="45"/>
                  <a:pt x="1374" y="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117360"/>
            <a:ext cx="1676520" cy="1524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4628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333360"/>
            <a:ext cx="769608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一棵小树问懒狮子：“你怎么不学点儿本领啊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　　一棵小树（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）地问懒狮子：“你怎么不学点儿本领啊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3933720"/>
            <a:ext cx="784836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小树说：“那你以后怎样生活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　　小树（　　）地说：“那你以后怎样生活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2492280"/>
            <a:ext cx="7607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381720"/>
            <a:ext cx="9144000" cy="366840"/>
          </a:xfrm>
          <a:prstGeom prst="rect">
            <a:avLst/>
          </a:prstGeom>
          <a:gradFill rotWithShape="0">
            <a:gsLst>
              <a:gs pos="0">
                <a:srgbClr val="daf4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718080" y="765000"/>
            <a:ext cx="31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一棵小树问懒狮子：“你怎么不学点儿本领啊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628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126828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懒狮子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抬起头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来，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慢吞吞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地说：“我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才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不去吃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那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苦头呢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93000" y="3139920"/>
            <a:ext cx="34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小树说：“那你以后怎样生活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3860640"/>
            <a:ext cx="799308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懒狮子（　　）说：“我爸爸和妈妈是林中的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大王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凭着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他们的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地位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，我会生活得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很好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6381720"/>
            <a:ext cx="9144000" cy="366840"/>
          </a:xfrm>
          <a:prstGeom prst="rect">
            <a:avLst/>
          </a:prstGeom>
          <a:gradFill rotWithShape="0">
            <a:gsLst>
              <a:gs pos="0">
                <a:srgbClr val="daf4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429360" y="620640"/>
            <a:ext cx="31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一棵小树问懒狮子：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你怎么不学点儿本领啊？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628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1268280"/>
            <a:ext cx="835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懒狮子抬起头来，慢吞吞地说：“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我才不去吃那苦头呢！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03920" y="3139920"/>
            <a:ext cx="34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小树说：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那你以后怎样生活呢？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4076640"/>
            <a:ext cx="8280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懒狮子说：“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我爸爸和妈妈是林中的大王，凭着他们的地位，我会生活得很好！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gradFill rotWithShape="0">
            <a:gsLst>
              <a:gs pos="0">
                <a:srgbClr val="daf4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453360"/>
            <a:ext cx="9144000" cy="366480"/>
          </a:xfrm>
          <a:prstGeom prst="rect">
            <a:avLst/>
          </a:prstGeom>
          <a:gradFill rotWithShape="0">
            <a:gsLst>
              <a:gs pos="0">
                <a:srgbClr val="daf4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1187280" y="620640"/>
            <a:ext cx="310680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隶书"/>
              </a:rPr>
              <a:t>小朋友们：</a:t>
            </a:r>
            <a:endParaRPr b="1" i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1197000"/>
            <a:ext cx="6767640" cy="39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懒狮子的话对吗？你想对它说些什么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477120" y="3789360"/>
            <a:ext cx="26668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5589720"/>
            <a:chOff x="0" y="0"/>
            <a:chExt cx="9144000" cy="558972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rcRect l="0" t="0" r="0" b="5724"/>
            <a:stretch/>
          </p:blipFill>
          <p:spPr>
            <a:xfrm>
              <a:off x="0" y="0"/>
              <a:ext cx="9144000" cy="55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 txBox="1"/>
            <p:nvPr/>
          </p:nvSpPr>
          <p:spPr>
            <a:xfrm>
              <a:off x="0" y="0"/>
              <a:ext cx="9144000" cy="558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5516640"/>
            <a:ext cx="9144000" cy="134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(              )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孩子，将来我们老了，不在了，你靠谁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你也应该学会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生活的本领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，做一只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真正的狮子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33360"/>
            <a:ext cx="4572000" cy="1295280"/>
          </a:xfrm>
          <a:prstGeom prst="wedgeEllipseCallout">
            <a:avLst>
              <a:gd name="adj1" fmla="val 22467"/>
              <a:gd name="adj2" fmla="val 76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狮子妈妈的话中，你懂得了什么道理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5557"/>
          <a:stretch/>
        </p:blipFill>
        <p:spPr>
          <a:xfrm>
            <a:off x="-31680" y="-22320"/>
            <a:ext cx="9137520" cy="63039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6237360"/>
            <a:ext cx="9144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懒懒能成为真正的狮子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24000" y="2492280"/>
            <a:ext cx="86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同学们，生活中你应该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习哪只小狮子，怎样去做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76360" y="1484280"/>
            <a:ext cx="326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  <a:ea typeface="楷体_GB2312"/>
              </a:rPr>
              <a:t>应用拓展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11280" y="1701720"/>
            <a:ext cx="70578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448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90448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90448"/>
                </a:solidFill>
                <a:latin typeface="Arial"/>
              </a:rPr>
              <a:t>两只小狮子，两只小狮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448"/>
                </a:solidFill>
                <a:latin typeface="Arial"/>
              </a:rPr>
              <a:t>　　学本领，学本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448"/>
                </a:solidFill>
                <a:latin typeface="Arial"/>
              </a:rPr>
              <a:t>　　一只非常刻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448"/>
                </a:solidFill>
                <a:latin typeface="Arial"/>
              </a:rPr>
              <a:t>　　一只懒洋洋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448"/>
                </a:solidFill>
                <a:latin typeface="Arial"/>
              </a:rPr>
              <a:t>　　谁成功，谁成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979640" y="69228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我拍手我唱歌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176040" y="-166680"/>
            <a:ext cx="2052360" cy="2281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44720" y="1628640"/>
            <a:ext cx="8591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-PUA"/>
              </a:rPr>
              <a:t>两只小狮子，一只勤一只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00400" y="533520"/>
            <a:ext cx="4648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你会读吗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1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86800" y="1371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992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692280"/>
            <a:ext cx="896472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1" lang="zh-CN" sz="6000" spc="-1" strike="noStrike">
                <a:solidFill>
                  <a:srgbClr val="6600cc"/>
                </a:solidFill>
                <a:latin typeface="Times New Roman"/>
              </a:rPr>
              <a:t>阅读推荐篇目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《钉纽扣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、《一双手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、《都是好孩子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、《小穿山甲学本领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《小公鸡学本领》       任选一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51640" y="3789360"/>
            <a:ext cx="792000" cy="503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148360" y="4292640"/>
            <a:ext cx="1295280" cy="144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39640" y="26028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  <a:ea typeface="楷体_GB2312"/>
              </a:rPr>
              <a:t>写话训练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1446120"/>
            <a:ext cx="8064360" cy="2653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课文中的懒狮子听了妈妈的话，它会怎么想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以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《小狮子变了》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为题续             写这个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也可以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我学本领》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为题写下自己的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979640" y="765000"/>
            <a:ext cx="511344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楷体_GB2312"/>
              </a:rPr>
              <a:t>再见</a:t>
            </a:r>
            <a:endParaRPr b="1" lang="en-US" sz="66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176040" y="-166680"/>
            <a:ext cx="2052360" cy="2281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00000" y="1413000"/>
            <a:ext cx="85917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新宋体"/>
              </a:rPr>
              <a:t>勤狮子，滚、扑、撕、咬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新宋体"/>
              </a:rPr>
              <a:t>整天练，学习本领非常棒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00400" y="533520"/>
            <a:ext cx="4648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你会读吗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686800" y="1371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992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176040" y="-166680"/>
            <a:ext cx="2052360" cy="2281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71640" y="1484280"/>
            <a:ext cx="85914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宋体-PUA"/>
              </a:rPr>
              <a:t>懒狮子，吃、喝、玩、睡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宋体-PUA"/>
              </a:rPr>
              <a:t>懒洋洋，将来生活靠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00400" y="533520"/>
            <a:ext cx="4648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你会读吗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686800" y="1371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992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249120" y="-384120"/>
            <a:ext cx="2052360" cy="2281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03280" y="549360"/>
            <a:ext cx="8591760" cy="63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两只小狮子，一个勤一个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勤狮子，滚、扑、撕、咬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整天练，学习本领非常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懒狮子，吃、喝、玩、睡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懒洋洋，将来生活靠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627280" y="117360"/>
            <a:ext cx="46483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你会读吗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686800" y="1371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992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>
            <a:lum bright="6000"/>
          </a:blip>
          <a:srcRect l="960" t="16666" r="1923" b="0"/>
          <a:stretch/>
        </p:blipFill>
        <p:spPr>
          <a:xfrm>
            <a:off x="0" y="-22320"/>
            <a:ext cx="9144000" cy="52959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5300640"/>
            <a:ext cx="914400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只小狮子整天练习滚、扑、撕、咬，非常刻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87700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021360"/>
            <a:ext cx="9144000" cy="5814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另一只却懒洋洋地晒太阳，什么也不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628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660066"/>
                </a:solidFill>
                <a:latin typeface="Arial"/>
              </a:rPr>
              <a:t>一只小狮子整天练习滚、扑、撕、咬，非常刻苦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624816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3429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3543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191120" cy="3429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140360" y="3500280"/>
            <a:ext cx="5003640" cy="3357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470080" y="2349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2640" y="2492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5877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97000" y="5877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86800" cy="31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660066"/>
                </a:solidFill>
                <a:latin typeface="Arial"/>
              </a:rPr>
              <a:t>整天练习滚、扑、撕、咬的小狮子，非常刻苦。它会吃哪些苦头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6248160" cy="500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4:20:44Z</dcterms:created>
  <dc:creator>6</dc:creator>
  <dc:description/>
  <dc:language>en-US</dc:language>
  <cp:lastModifiedBy>Lenovo User</cp:lastModifiedBy>
  <cp:lastPrinted>1899-12-30T00:00:00Z</cp:lastPrinted>
  <dcterms:modified xsi:type="dcterms:W3CDTF">2011-06-22T15:40:04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</Properties>
</file>