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0769-5214-43B3-BEAA-0890BC365D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ableHighAccuracy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要设备支持高精度定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Phon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对低精度和高精度定位是区分不同的许可权限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可能会调用失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要用高精度定位取决于你的功能需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imeou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设置获取位置信息的最长等待时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有当用户允许获取时才开始计算时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因此这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ou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指的是网络请求的时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ximumAg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是否要获取缓存的位置信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例子来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如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钟的时候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etCurrentPosition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取了一次位置信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后又调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etCurrentPosition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设置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ximumAg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时就会把第一次获取的位置信息返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少相应时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33FB-ECFB-4E75-9725-C9029CE346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0FD-0D9A-4E78-9ECB-FF14182D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0E0-971A-4669-AAE1-3A8C55F0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E01-64FE-432B-B8E7-AFCDB87D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7D4-2DED-4D13-A750-53CD4B11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97D-C70C-4D44-B810-04453945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801-8606-4783-9BFB-38123AE2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754-6396-48AD-B1E8-8AFF3D95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4EC-A344-48E0-BEC6-26CB0A38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EE3-D3C7-4238-9C6C-4D23B16F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51A-C869-40C4-8893-6944A950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735-9EAA-428B-9EB1-78848B14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0C7-EA4A-4916-A6CA-1A59042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938F-8EE3-43F1-B256-DF3CEE6E1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零碎的水珠背景 [转换]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aper Envelope3 [转换]"/>
          <p:cNvPicPr/>
          <p:nvPr/>
        </p:nvPicPr>
        <p:blipFill>
          <a:blip r:embed="rId2"/>
          <a:stretch/>
        </p:blipFill>
        <p:spPr>
          <a:xfrm>
            <a:off x="1979640" y="2570040"/>
            <a:ext cx="7164360" cy="4287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728720" y="3081240"/>
            <a:ext cx="367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ff"/>
                </a:solidFill>
                <a:latin typeface="Arial"/>
                <a:ea typeface="方正超粗黑简体"/>
              </a:rPr>
              <a:t>地理定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36760" y="19098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eolo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9"/>
          <p:cNvSpPr/>
          <p:nvPr/>
        </p:nvSpPr>
        <p:spPr>
          <a:xfrm>
            <a:off x="6372360" y="2825640"/>
            <a:ext cx="730080" cy="730440"/>
          </a:xfrm>
          <a:custGeom>
            <a:avLst/>
            <a:gdLst/>
            <a:ahLst/>
            <a:rect l="l" t="t" r="r" b="b"/>
            <a:pathLst>
              <a:path w="730250" h="730250">
                <a:moveTo>
                  <a:pt x="0" y="365125"/>
                </a:moveTo>
                <a:cubicBezTo>
                  <a:pt x="0" y="163472"/>
                  <a:pt x="163472" y="0"/>
                  <a:pt x="365125" y="0"/>
                </a:cubicBezTo>
                <a:cubicBezTo>
                  <a:pt x="566778" y="0"/>
                  <a:pt x="730250" y="163472"/>
                  <a:pt x="730250" y="365125"/>
                </a:cubicBezTo>
                <a:cubicBezTo>
                  <a:pt x="730250" y="566778"/>
                  <a:pt x="566778" y="730250"/>
                  <a:pt x="365125" y="730250"/>
                </a:cubicBezTo>
                <a:cubicBezTo>
                  <a:pt x="163472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199705" y="664644"/>
                  <a:pt x="365125" y="664644"/>
                </a:cubicBezTo>
                <a:cubicBezTo>
                  <a:pt x="530545" y="664644"/>
                  <a:pt x="664644" y="530545"/>
                  <a:pt x="664644" y="365125"/>
                </a:cubicBezTo>
                <a:cubicBezTo>
                  <a:pt x="664644" y="199705"/>
                  <a:pt x="530545" y="65606"/>
                  <a:pt x="365125" y="65606"/>
                </a:cubicBezTo>
                <a:cubicBezTo>
                  <a:pt x="199705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心圆 15"/>
          <p:cNvSpPr/>
          <p:nvPr/>
        </p:nvSpPr>
        <p:spPr>
          <a:xfrm>
            <a:off x="6943680" y="2330280"/>
            <a:ext cx="450720" cy="451080"/>
          </a:xfrm>
          <a:custGeom>
            <a:avLst/>
            <a:gdLst/>
            <a:ahLst/>
            <a:rect l="l" t="t" r="r" b="b"/>
            <a:pathLst>
              <a:path w="450850" h="450850">
                <a:moveTo>
                  <a:pt x="0" y="225425"/>
                </a:moveTo>
                <a:cubicBezTo>
                  <a:pt x="0" y="100926"/>
                  <a:pt x="100926" y="0"/>
                  <a:pt x="225425" y="0"/>
                </a:cubicBezTo>
                <a:cubicBezTo>
                  <a:pt x="349924" y="0"/>
                  <a:pt x="450850" y="100926"/>
                  <a:pt x="450850" y="225425"/>
                </a:cubicBezTo>
                <a:cubicBezTo>
                  <a:pt x="450850" y="349924"/>
                  <a:pt x="349924" y="450850"/>
                  <a:pt x="225425" y="450850"/>
                </a:cubicBezTo>
                <a:cubicBezTo>
                  <a:pt x="100926" y="450850"/>
                  <a:pt x="0" y="349924"/>
                  <a:pt x="0" y="225425"/>
                </a:cubicBezTo>
                <a:close/>
                <a:moveTo>
                  <a:pt x="40504" y="225425"/>
                </a:moveTo>
                <a:cubicBezTo>
                  <a:pt x="40504" y="327554"/>
                  <a:pt x="123296" y="410346"/>
                  <a:pt x="225425" y="410346"/>
                </a:cubicBezTo>
                <a:cubicBezTo>
                  <a:pt x="327554" y="410346"/>
                  <a:pt x="410346" y="327554"/>
                  <a:pt x="410346" y="225425"/>
                </a:cubicBezTo>
                <a:cubicBezTo>
                  <a:pt x="410346" y="123296"/>
                  <a:pt x="327554" y="40504"/>
                  <a:pt x="225425" y="40504"/>
                </a:cubicBezTo>
                <a:cubicBezTo>
                  <a:pt x="123296" y="40504"/>
                  <a:pt x="40504" y="123296"/>
                  <a:pt x="40504" y="225425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心圆 18"/>
          <p:cNvSpPr/>
          <p:nvPr/>
        </p:nvSpPr>
        <p:spPr>
          <a:xfrm>
            <a:off x="7596360" y="1700280"/>
            <a:ext cx="441000" cy="441360"/>
          </a:xfrm>
          <a:custGeom>
            <a:avLst/>
            <a:gdLst/>
            <a:ahLst/>
            <a:rect l="l" t="t" r="r" b="b"/>
            <a:pathLst>
              <a:path w="441325" h="441325">
                <a:moveTo>
                  <a:pt x="0" y="220663"/>
                </a:moveTo>
                <a:cubicBezTo>
                  <a:pt x="0" y="98794"/>
                  <a:pt x="98794" y="0"/>
                  <a:pt x="220663" y="0"/>
                </a:cubicBezTo>
                <a:cubicBezTo>
                  <a:pt x="342532" y="0"/>
                  <a:pt x="441326" y="98794"/>
                  <a:pt x="441326" y="220663"/>
                </a:cubicBezTo>
                <a:cubicBezTo>
                  <a:pt x="441326" y="342532"/>
                  <a:pt x="342532" y="441326"/>
                  <a:pt x="220663" y="441326"/>
                </a:cubicBezTo>
                <a:cubicBezTo>
                  <a:pt x="98794" y="441326"/>
                  <a:pt x="0" y="342532"/>
                  <a:pt x="0" y="220663"/>
                </a:cubicBezTo>
                <a:close/>
                <a:moveTo>
                  <a:pt x="39649" y="220663"/>
                </a:moveTo>
                <a:cubicBezTo>
                  <a:pt x="39649" y="320634"/>
                  <a:pt x="120692" y="401677"/>
                  <a:pt x="220663" y="401677"/>
                </a:cubicBezTo>
                <a:cubicBezTo>
                  <a:pt x="320634" y="401677"/>
                  <a:pt x="401677" y="320634"/>
                  <a:pt x="401677" y="220663"/>
                </a:cubicBezTo>
                <a:cubicBezTo>
                  <a:pt x="401677" y="120692"/>
                  <a:pt x="320634" y="39649"/>
                  <a:pt x="220663" y="39649"/>
                </a:cubicBezTo>
                <a:cubicBezTo>
                  <a:pt x="120692" y="39649"/>
                  <a:pt x="39649" y="120692"/>
                  <a:pt x="39649" y="220663"/>
                </a:cubicBezTo>
                <a:close/>
              </a:path>
            </a:pathLst>
          </a:custGeom>
          <a:solidFill>
            <a:srgbClr val="00b0f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同心圆 4"/>
          <p:cNvSpPr/>
          <p:nvPr/>
        </p:nvSpPr>
        <p:spPr>
          <a:xfrm>
            <a:off x="395280" y="2505240"/>
            <a:ext cx="233280" cy="230040"/>
          </a:xfrm>
          <a:custGeom>
            <a:avLst/>
            <a:gdLst/>
            <a:ahLst/>
            <a:rect l="l" t="t" r="r" b="b"/>
            <a:pathLst>
              <a:path w="233362" h="230188">
                <a:moveTo>
                  <a:pt x="0" y="115094"/>
                </a:moveTo>
                <a:cubicBezTo>
                  <a:pt x="0" y="51529"/>
                  <a:pt x="52240" y="0"/>
                  <a:pt x="116681" y="0"/>
                </a:cubicBezTo>
                <a:cubicBezTo>
                  <a:pt x="181122" y="0"/>
                  <a:pt x="233362" y="51529"/>
                  <a:pt x="233362" y="115094"/>
                </a:cubicBezTo>
                <a:cubicBezTo>
                  <a:pt x="233362" y="178659"/>
                  <a:pt x="181122" y="230188"/>
                  <a:pt x="116681" y="230188"/>
                </a:cubicBezTo>
                <a:cubicBezTo>
                  <a:pt x="52240" y="230188"/>
                  <a:pt x="0" y="178659"/>
                  <a:pt x="0" y="115094"/>
                </a:cubicBezTo>
                <a:close/>
                <a:moveTo>
                  <a:pt x="20680" y="115094"/>
                </a:moveTo>
                <a:cubicBezTo>
                  <a:pt x="20680" y="167237"/>
                  <a:pt x="63661" y="209508"/>
                  <a:pt x="116681" y="209508"/>
                </a:cubicBezTo>
                <a:cubicBezTo>
                  <a:pt x="169701" y="209508"/>
                  <a:pt x="212682" y="167237"/>
                  <a:pt x="212682" y="115094"/>
                </a:cubicBezTo>
                <a:cubicBezTo>
                  <a:pt x="212682" y="62951"/>
                  <a:pt x="169701" y="20680"/>
                  <a:pt x="116681" y="20680"/>
                </a:cubicBezTo>
                <a:cubicBezTo>
                  <a:pt x="63661" y="20680"/>
                  <a:pt x="20680" y="62951"/>
                  <a:pt x="20680" y="115094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同心圆 5"/>
          <p:cNvSpPr/>
          <p:nvPr/>
        </p:nvSpPr>
        <p:spPr>
          <a:xfrm>
            <a:off x="1112760" y="2017800"/>
            <a:ext cx="290520" cy="287280"/>
          </a:xfrm>
          <a:custGeom>
            <a:avLst/>
            <a:gdLst/>
            <a:ahLst/>
            <a:rect l="l" t="t" r="r" b="b"/>
            <a:pathLst>
              <a:path w="290512" h="287337">
                <a:moveTo>
                  <a:pt x="0" y="143669"/>
                </a:moveTo>
                <a:cubicBezTo>
                  <a:pt x="0" y="64323"/>
                  <a:pt x="65033" y="0"/>
                  <a:pt x="145256" y="0"/>
                </a:cubicBezTo>
                <a:cubicBezTo>
                  <a:pt x="225479" y="0"/>
                  <a:pt x="290512" y="64323"/>
                  <a:pt x="290512" y="143669"/>
                </a:cubicBezTo>
                <a:cubicBezTo>
                  <a:pt x="290512" y="223015"/>
                  <a:pt x="225479" y="287338"/>
                  <a:pt x="145256" y="287338"/>
                </a:cubicBezTo>
                <a:cubicBezTo>
                  <a:pt x="65033" y="287338"/>
                  <a:pt x="0" y="223015"/>
                  <a:pt x="0" y="143669"/>
                </a:cubicBezTo>
                <a:close/>
                <a:moveTo>
                  <a:pt x="25814" y="143669"/>
                </a:moveTo>
                <a:cubicBezTo>
                  <a:pt x="25814" y="208758"/>
                  <a:pt x="79290" y="261523"/>
                  <a:pt x="145256" y="261523"/>
                </a:cubicBezTo>
                <a:cubicBezTo>
                  <a:pt x="211222" y="261523"/>
                  <a:pt x="264698" y="208758"/>
                  <a:pt x="264698" y="143669"/>
                </a:cubicBezTo>
                <a:cubicBezTo>
                  <a:pt x="264698" y="78580"/>
                  <a:pt x="211222" y="25815"/>
                  <a:pt x="145256" y="25815"/>
                </a:cubicBezTo>
                <a:cubicBezTo>
                  <a:pt x="79290" y="25815"/>
                  <a:pt x="25814" y="78580"/>
                  <a:pt x="25814" y="143669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同心圆 13"/>
          <p:cNvSpPr/>
          <p:nvPr/>
        </p:nvSpPr>
        <p:spPr>
          <a:xfrm>
            <a:off x="1905120" y="3505320"/>
            <a:ext cx="287280" cy="284040"/>
          </a:xfrm>
          <a:custGeom>
            <a:avLst/>
            <a:gdLst/>
            <a:ahLst/>
            <a:rect l="l" t="t" r="r" b="b"/>
            <a:pathLst>
              <a:path w="287338" h="284163">
                <a:moveTo>
                  <a:pt x="0" y="142082"/>
                </a:moveTo>
                <a:cubicBezTo>
                  <a:pt x="0" y="63612"/>
                  <a:pt x="64323" y="0"/>
                  <a:pt x="143669" y="0"/>
                </a:cubicBezTo>
                <a:cubicBezTo>
                  <a:pt x="223015" y="0"/>
                  <a:pt x="287338" y="63612"/>
                  <a:pt x="287338" y="142082"/>
                </a:cubicBezTo>
                <a:cubicBezTo>
                  <a:pt x="287338" y="220552"/>
                  <a:pt x="223015" y="284164"/>
                  <a:pt x="143669" y="284164"/>
                </a:cubicBezTo>
                <a:cubicBezTo>
                  <a:pt x="64323" y="284164"/>
                  <a:pt x="0" y="220552"/>
                  <a:pt x="0" y="142082"/>
                </a:cubicBezTo>
                <a:close/>
                <a:moveTo>
                  <a:pt x="25529" y="142082"/>
                </a:moveTo>
                <a:cubicBezTo>
                  <a:pt x="25529" y="206452"/>
                  <a:pt x="78422" y="258634"/>
                  <a:pt x="143669" y="258634"/>
                </a:cubicBezTo>
                <a:cubicBezTo>
                  <a:pt x="208916" y="258634"/>
                  <a:pt x="261809" y="206452"/>
                  <a:pt x="261809" y="142082"/>
                </a:cubicBezTo>
                <a:cubicBezTo>
                  <a:pt x="261809" y="77712"/>
                  <a:pt x="208916" y="25530"/>
                  <a:pt x="143669" y="25530"/>
                </a:cubicBezTo>
                <a:cubicBezTo>
                  <a:pt x="78422" y="25530"/>
                  <a:pt x="25529" y="77712"/>
                  <a:pt x="25529" y="142082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同心圆 14"/>
          <p:cNvSpPr/>
          <p:nvPr/>
        </p:nvSpPr>
        <p:spPr>
          <a:xfrm>
            <a:off x="2262240" y="3505320"/>
            <a:ext cx="71280" cy="69840"/>
          </a:xfrm>
          <a:custGeom>
            <a:avLst/>
            <a:gdLst/>
            <a:ahLst/>
            <a:rect l="l" t="t" r="r" b="b"/>
            <a:pathLst>
              <a:path w="71437" h="69850">
                <a:moveTo>
                  <a:pt x="0" y="34925"/>
                </a:moveTo>
                <a:cubicBezTo>
                  <a:pt x="0" y="15636"/>
                  <a:pt x="15992" y="0"/>
                  <a:pt x="35719" y="0"/>
                </a:cubicBezTo>
                <a:cubicBezTo>
                  <a:pt x="55446" y="0"/>
                  <a:pt x="71438" y="15636"/>
                  <a:pt x="71438" y="34925"/>
                </a:cubicBezTo>
                <a:cubicBezTo>
                  <a:pt x="71438" y="54214"/>
                  <a:pt x="55446" y="69850"/>
                  <a:pt x="35719" y="69850"/>
                </a:cubicBezTo>
                <a:cubicBezTo>
                  <a:pt x="15992" y="69850"/>
                  <a:pt x="0" y="54214"/>
                  <a:pt x="0" y="34925"/>
                </a:cubicBezTo>
                <a:close/>
                <a:moveTo>
                  <a:pt x="6275" y="34925"/>
                </a:moveTo>
                <a:cubicBezTo>
                  <a:pt x="6275" y="50748"/>
                  <a:pt x="19457" y="63575"/>
                  <a:pt x="35718" y="63575"/>
                </a:cubicBezTo>
                <a:cubicBezTo>
                  <a:pt x="51979" y="63575"/>
                  <a:pt x="65161" y="50748"/>
                  <a:pt x="65161" y="34925"/>
                </a:cubicBezTo>
                <a:cubicBezTo>
                  <a:pt x="65161" y="19102"/>
                  <a:pt x="51979" y="6275"/>
                  <a:pt x="35718" y="6275"/>
                </a:cubicBezTo>
                <a:cubicBezTo>
                  <a:pt x="19457" y="6275"/>
                  <a:pt x="6275" y="19102"/>
                  <a:pt x="6275" y="34925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31"/>
          <p:cNvGrpSpPr/>
          <p:nvPr/>
        </p:nvGrpSpPr>
        <p:grpSpPr>
          <a:xfrm>
            <a:off x="-274680" y="1393920"/>
            <a:ext cx="1101240" cy="4914720"/>
            <a:chOff x="-274680" y="1393920"/>
            <a:chExt cx="1101240" cy="4914720"/>
          </a:xfrm>
        </p:grpSpPr>
        <p:sp>
          <p:nvSpPr>
            <p:cNvPr id="190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同心圆 5"/>
            <p:cNvSpPr/>
            <p:nvPr/>
          </p:nvSpPr>
          <p:spPr>
            <a:xfrm>
              <a:off x="-181080" y="580716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同心圆 6"/>
            <p:cNvGrpSpPr/>
            <p:nvPr/>
          </p:nvGrpSpPr>
          <p:grpSpPr>
            <a:xfrm>
              <a:off x="394560" y="2494080"/>
              <a:ext cx="432000" cy="433440"/>
              <a:chOff x="394560" y="2494080"/>
              <a:chExt cx="432000" cy="433440"/>
            </a:xfrm>
          </p:grpSpPr>
          <p:pic>
            <p:nvPicPr>
              <p:cNvPr id="193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4080"/>
                <a:ext cx="43200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56840" y="2556360"/>
                <a:ext cx="3060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30"/>
          <p:cNvGrpSpPr/>
          <p:nvPr/>
        </p:nvGrpSpPr>
        <p:grpSpPr>
          <a:xfrm>
            <a:off x="8004240" y="1434960"/>
            <a:ext cx="1225440" cy="565200"/>
            <a:chOff x="8004240" y="1434960"/>
            <a:chExt cx="1225440" cy="565200"/>
          </a:xfrm>
        </p:grpSpPr>
        <p:sp>
          <p:nvSpPr>
            <p:cNvPr id="197" name="同心圆 7"/>
            <p:cNvSpPr/>
            <p:nvPr/>
          </p:nvSpPr>
          <p:spPr>
            <a:xfrm>
              <a:off x="8004240" y="156204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同心圆 9"/>
            <p:cNvSpPr/>
            <p:nvPr/>
          </p:nvSpPr>
          <p:spPr>
            <a:xfrm>
              <a:off x="8879040" y="143496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3"/>
          <p:cNvGrpSpPr/>
          <p:nvPr/>
        </p:nvGrpSpPr>
        <p:grpSpPr>
          <a:xfrm>
            <a:off x="1101600" y="692280"/>
            <a:ext cx="6710040" cy="791640"/>
            <a:chOff x="1101600" y="692280"/>
            <a:chExt cx="6710040" cy="791640"/>
          </a:xfrm>
        </p:grpSpPr>
        <p:sp>
          <p:nvSpPr>
            <p:cNvPr id="201" name="AutoShape 14"/>
            <p:cNvSpPr/>
            <p:nvPr/>
          </p:nvSpPr>
          <p:spPr>
            <a:xfrm>
              <a:off x="1172520" y="692280"/>
              <a:ext cx="6583680" cy="6487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AutoShape 3"/>
            <p:cNvGrpSpPr/>
            <p:nvPr/>
          </p:nvGrpSpPr>
          <p:grpSpPr>
            <a:xfrm>
              <a:off x="1101600" y="696240"/>
              <a:ext cx="6710040" cy="787680"/>
              <a:chOff x="1101600" y="696240"/>
              <a:chExt cx="6710040" cy="787680"/>
            </a:xfrm>
          </p:grpSpPr>
          <p:pic>
            <p:nvPicPr>
              <p:cNvPr id="20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6240"/>
                <a:ext cx="671004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1193760" y="801000"/>
                <a:ext cx="652572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Geolocation  API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Box 3"/>
          <p:cNvSpPr/>
          <p:nvPr/>
        </p:nvSpPr>
        <p:spPr>
          <a:xfrm>
            <a:off x="1341360" y="2000160"/>
            <a:ext cx="59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.geoloc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有三个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etCurrentPosi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atchPosi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earWatch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1"/>
          <p:cNvGrpSpPr/>
          <p:nvPr/>
        </p:nvGrpSpPr>
        <p:grpSpPr>
          <a:xfrm>
            <a:off x="-274680" y="1393920"/>
            <a:ext cx="1101240" cy="4914720"/>
            <a:chOff x="-274680" y="1393920"/>
            <a:chExt cx="1101240" cy="4914720"/>
          </a:xfrm>
        </p:grpSpPr>
        <p:sp>
          <p:nvSpPr>
            <p:cNvPr id="208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同心圆 5"/>
            <p:cNvSpPr/>
            <p:nvPr/>
          </p:nvSpPr>
          <p:spPr>
            <a:xfrm>
              <a:off x="-181080" y="580716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同心圆 6"/>
            <p:cNvGrpSpPr/>
            <p:nvPr/>
          </p:nvGrpSpPr>
          <p:grpSpPr>
            <a:xfrm>
              <a:off x="394560" y="2494080"/>
              <a:ext cx="432000" cy="433440"/>
              <a:chOff x="394560" y="2494080"/>
              <a:chExt cx="432000" cy="433440"/>
            </a:xfrm>
          </p:grpSpPr>
          <p:pic>
            <p:nvPicPr>
              <p:cNvPr id="21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4080"/>
                <a:ext cx="43200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456840" y="2556360"/>
                <a:ext cx="3060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0"/>
          <p:cNvGrpSpPr/>
          <p:nvPr/>
        </p:nvGrpSpPr>
        <p:grpSpPr>
          <a:xfrm>
            <a:off x="8004240" y="1434960"/>
            <a:ext cx="1225440" cy="565200"/>
            <a:chOff x="8004240" y="1434960"/>
            <a:chExt cx="1225440" cy="565200"/>
          </a:xfrm>
        </p:grpSpPr>
        <p:sp>
          <p:nvSpPr>
            <p:cNvPr id="215" name="同心圆 7"/>
            <p:cNvSpPr/>
            <p:nvPr/>
          </p:nvSpPr>
          <p:spPr>
            <a:xfrm>
              <a:off x="8004240" y="156204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同心圆 9"/>
            <p:cNvSpPr/>
            <p:nvPr/>
          </p:nvSpPr>
          <p:spPr>
            <a:xfrm>
              <a:off x="8879040" y="143496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1101600" y="692280"/>
            <a:ext cx="6710040" cy="791640"/>
            <a:chOff x="1101600" y="692280"/>
            <a:chExt cx="6710040" cy="791640"/>
          </a:xfrm>
        </p:grpSpPr>
        <p:sp>
          <p:nvSpPr>
            <p:cNvPr id="219" name="AutoShape 14"/>
            <p:cNvSpPr/>
            <p:nvPr/>
          </p:nvSpPr>
          <p:spPr>
            <a:xfrm>
              <a:off x="1172520" y="692280"/>
              <a:ext cx="6583680" cy="6487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AutoShape 3"/>
            <p:cNvGrpSpPr/>
            <p:nvPr/>
          </p:nvGrpSpPr>
          <p:grpSpPr>
            <a:xfrm>
              <a:off x="1101600" y="696240"/>
              <a:ext cx="6710040" cy="787680"/>
              <a:chOff x="1101600" y="696240"/>
              <a:chExt cx="6710040" cy="787680"/>
            </a:xfrm>
          </p:grpSpPr>
          <p:pic>
            <p:nvPicPr>
              <p:cNvPr id="22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6240"/>
                <a:ext cx="671004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1193760" y="801000"/>
                <a:ext cx="652572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Geolocation  API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TextBox 3"/>
          <p:cNvSpPr/>
          <p:nvPr/>
        </p:nvSpPr>
        <p:spPr>
          <a:xfrm>
            <a:off x="1022400" y="2135160"/>
            <a:ext cx="7338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CurrentPosition(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法最多可以有三个参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geolocationSucce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带回当前位置的回调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（必需的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geolocationError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错误发生时使用的回调（可选的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geolocationOptions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理位置选项（可选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or.geolocation.getCurrentPosition(geolocationSuccess, geolocationError, geolocationOption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226" name="同心圆 15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同心圆 16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圆角矩形 17"/>
          <p:cNvSpPr/>
          <p:nvPr/>
        </p:nvSpPr>
        <p:spPr>
          <a:xfrm>
            <a:off x="885960" y="1239840"/>
            <a:ext cx="7632720" cy="496728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标题 1"/>
          <p:cNvSpPr/>
          <p:nvPr/>
        </p:nvSpPr>
        <p:spPr>
          <a:xfrm>
            <a:off x="576360" y="351000"/>
            <a:ext cx="80406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233" name="同心圆 6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同心圆 7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同心圆 8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236" name="同心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13"/>
          <p:cNvGrpSpPr/>
          <p:nvPr/>
        </p:nvGrpSpPr>
        <p:grpSpPr>
          <a:xfrm>
            <a:off x="1079640" y="654120"/>
            <a:ext cx="6710040" cy="791640"/>
            <a:chOff x="1079640" y="654120"/>
            <a:chExt cx="6710040" cy="791640"/>
          </a:xfrm>
        </p:grpSpPr>
        <p:sp>
          <p:nvSpPr>
            <p:cNvPr id="239" name="AutoShape 14"/>
            <p:cNvSpPr/>
            <p:nvPr/>
          </p:nvSpPr>
          <p:spPr>
            <a:xfrm>
              <a:off x="1152360" y="654120"/>
              <a:ext cx="6584040" cy="6476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AutoShape 3"/>
            <p:cNvGrpSpPr/>
            <p:nvPr/>
          </p:nvGrpSpPr>
          <p:grpSpPr>
            <a:xfrm>
              <a:off x="1079640" y="659520"/>
              <a:ext cx="6710040" cy="786240"/>
              <a:chOff x="1079640" y="659520"/>
              <a:chExt cx="6710040" cy="786240"/>
            </a:xfrm>
          </p:grpSpPr>
          <p:pic>
            <p:nvPicPr>
              <p:cNvPr id="24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9640" y="659520"/>
                <a:ext cx="6710040" cy="78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1173960" y="7628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eolocationSuccess(positon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圆角矩形 9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table" descr=""/>
          <p:cNvPicPr/>
          <p:nvPr/>
        </p:nvPicPr>
        <p:blipFill>
          <a:blip r:embed="rId4"/>
          <a:stretch/>
        </p:blipFill>
        <p:spPr>
          <a:xfrm>
            <a:off x="690480" y="1604880"/>
            <a:ext cx="7926480" cy="43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247" name="同心圆 7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同心圆 8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250" name="同心圆 10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同心圆 11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同心圆 12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253" name="同心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圆角矩形 13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3"/>
          <p:cNvGrpSpPr/>
          <p:nvPr/>
        </p:nvGrpSpPr>
        <p:grpSpPr>
          <a:xfrm>
            <a:off x="1079640" y="654120"/>
            <a:ext cx="6710040" cy="791640"/>
            <a:chOff x="1079640" y="654120"/>
            <a:chExt cx="6710040" cy="791640"/>
          </a:xfrm>
        </p:grpSpPr>
        <p:sp>
          <p:nvSpPr>
            <p:cNvPr id="257" name="AutoShape 14"/>
            <p:cNvSpPr/>
            <p:nvPr/>
          </p:nvSpPr>
          <p:spPr>
            <a:xfrm>
              <a:off x="1152360" y="654120"/>
              <a:ext cx="6584040" cy="7916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AutoShape 3"/>
            <p:cNvGrpSpPr/>
            <p:nvPr/>
          </p:nvGrpSpPr>
          <p:grpSpPr>
            <a:xfrm>
              <a:off x="1079640" y="714240"/>
              <a:ext cx="6710040" cy="722520"/>
              <a:chOff x="1079640" y="714240"/>
              <a:chExt cx="6710040" cy="722520"/>
            </a:xfrm>
          </p:grpSpPr>
          <p:pic>
            <p:nvPicPr>
              <p:cNvPr id="25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9640" y="714240"/>
                <a:ext cx="6710040" cy="72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1173960" y="785880"/>
                <a:ext cx="65257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576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locationError(error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69720" y="3357360"/>
            <a:ext cx="74674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: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知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: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拒绝被获取位置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: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不可用或无法连接到卫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: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取位置信息超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标题 1"/>
          <p:cNvSpPr/>
          <p:nvPr/>
        </p:nvSpPr>
        <p:spPr>
          <a:xfrm>
            <a:off x="75564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table" descr=""/>
          <p:cNvPicPr/>
          <p:nvPr/>
        </p:nvPicPr>
        <p:blipFill>
          <a:blip r:embed="rId4"/>
          <a:stretch/>
        </p:blipFill>
        <p:spPr>
          <a:xfrm>
            <a:off x="406440" y="1895400"/>
            <a:ext cx="8329680" cy="14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267" name="同心圆 7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同心圆 8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270" name="同心圆 10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同心圆 11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同心圆 12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273" name="同心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圆角矩形 13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3"/>
          <p:cNvGrpSpPr/>
          <p:nvPr/>
        </p:nvGrpSpPr>
        <p:grpSpPr>
          <a:xfrm>
            <a:off x="1079640" y="654120"/>
            <a:ext cx="6710040" cy="791640"/>
            <a:chOff x="1079640" y="654120"/>
            <a:chExt cx="6710040" cy="791640"/>
          </a:xfrm>
        </p:grpSpPr>
        <p:sp>
          <p:nvSpPr>
            <p:cNvPr id="277" name="AutoShape 14"/>
            <p:cNvSpPr/>
            <p:nvPr/>
          </p:nvSpPr>
          <p:spPr>
            <a:xfrm>
              <a:off x="1152360" y="654120"/>
              <a:ext cx="6584040" cy="7916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AutoShape 3"/>
            <p:cNvGrpSpPr/>
            <p:nvPr/>
          </p:nvGrpSpPr>
          <p:grpSpPr>
            <a:xfrm>
              <a:off x="1079640" y="714240"/>
              <a:ext cx="6710040" cy="722520"/>
              <a:chOff x="1079640" y="714240"/>
              <a:chExt cx="6710040" cy="722520"/>
            </a:xfrm>
          </p:grpSpPr>
          <p:pic>
            <p:nvPicPr>
              <p:cNvPr id="27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9640" y="714240"/>
                <a:ext cx="6710040" cy="72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173960" y="785880"/>
                <a:ext cx="65257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072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Op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684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table" descr=""/>
          <p:cNvPicPr/>
          <p:nvPr/>
        </p:nvPicPr>
        <p:blipFill>
          <a:blip r:embed="rId4"/>
          <a:stretch/>
        </p:blipFill>
        <p:spPr>
          <a:xfrm>
            <a:off x="428760" y="2387520"/>
            <a:ext cx="8358120" cy="2168640"/>
          </a:xfrm>
          <a:prstGeom prst="rect">
            <a:avLst/>
          </a:prstGeom>
          <a:ln w="0">
            <a:noFill/>
          </a:ln>
        </p:spPr>
      </p:pic>
      <p:pic>
        <p:nvPicPr>
          <p:cNvPr id="284" name="内容占位符 1" descr=""/>
          <p:cNvPicPr/>
          <p:nvPr/>
        </p:nvPicPr>
        <p:blipFill>
          <a:blip r:embed="rId5"/>
          <a:stretch/>
        </p:blipFill>
        <p:spPr>
          <a:xfrm>
            <a:off x="5037120" y="4118040"/>
            <a:ext cx="581040" cy="2476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"/>
          <p:cNvSpPr/>
          <p:nvPr/>
        </p:nvSpPr>
        <p:spPr>
          <a:xfrm>
            <a:off x="507672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毫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288" name="同心圆 5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同心圆 6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291" name="同心圆 8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同心圆 9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同心圆 10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294" name="同心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圆角矩形 11"/>
          <p:cNvSpPr/>
          <p:nvPr/>
        </p:nvSpPr>
        <p:spPr>
          <a:xfrm>
            <a:off x="642960" y="1052640"/>
            <a:ext cx="7632720" cy="496728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3"/>
          <p:cNvGrpSpPr/>
          <p:nvPr/>
        </p:nvGrpSpPr>
        <p:grpSpPr>
          <a:xfrm>
            <a:off x="1185840" y="584280"/>
            <a:ext cx="6541920" cy="707760"/>
            <a:chOff x="1185840" y="584280"/>
            <a:chExt cx="6541920" cy="707760"/>
          </a:xfrm>
        </p:grpSpPr>
        <p:sp>
          <p:nvSpPr>
            <p:cNvPr id="298" name="AutoShape 14"/>
            <p:cNvSpPr/>
            <p:nvPr/>
          </p:nvSpPr>
          <p:spPr>
            <a:xfrm>
              <a:off x="1252800" y="584280"/>
              <a:ext cx="6419160" cy="5781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AutoShape 3"/>
            <p:cNvGrpSpPr/>
            <p:nvPr/>
          </p:nvGrpSpPr>
          <p:grpSpPr>
            <a:xfrm>
              <a:off x="1185840" y="585360"/>
              <a:ext cx="6541920" cy="706680"/>
              <a:chOff x="1185840" y="585360"/>
              <a:chExt cx="6541920" cy="706680"/>
            </a:xfrm>
          </p:grpSpPr>
          <p:pic>
            <p:nvPicPr>
              <p:cNvPr id="30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5840" y="585360"/>
                <a:ext cx="654192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1269000" y="677880"/>
                <a:ext cx="63712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watchPosition(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"/>
          <p:cNvSpPr txBox="1"/>
          <p:nvPr/>
        </p:nvSpPr>
        <p:spPr>
          <a:xfrm>
            <a:off x="971640" y="1537920"/>
            <a:ext cx="716256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tchPosition(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法定期轮询用户的位置，查看用户的位置是否发生改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tchPosition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调用时，其异步地启动一个查看过程，这一过程涉及了一个新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sition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象的获取和一个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tchID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创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设备的位置发生改变时，一个合适的带有新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sition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象的回调就会被调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avigator.geolocation.watchPosition(geolocationSuccess,     geolocationError, geolocationOption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305" name="同心圆 5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同心圆 6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308" name="同心圆 8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同心圆 9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同心圆 10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311" name="同心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圆角矩形 11"/>
          <p:cNvSpPr/>
          <p:nvPr/>
        </p:nvSpPr>
        <p:spPr>
          <a:xfrm>
            <a:off x="642960" y="1052640"/>
            <a:ext cx="7632720" cy="496728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1185840" y="584280"/>
            <a:ext cx="6541920" cy="707760"/>
            <a:chOff x="1185840" y="584280"/>
            <a:chExt cx="6541920" cy="707760"/>
          </a:xfrm>
        </p:grpSpPr>
        <p:sp>
          <p:nvSpPr>
            <p:cNvPr id="315" name="AutoShape 14"/>
            <p:cNvSpPr/>
            <p:nvPr/>
          </p:nvSpPr>
          <p:spPr>
            <a:xfrm>
              <a:off x="1252800" y="584280"/>
              <a:ext cx="6419160" cy="5781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AutoShape 3"/>
            <p:cNvGrpSpPr/>
            <p:nvPr/>
          </p:nvGrpSpPr>
          <p:grpSpPr>
            <a:xfrm>
              <a:off x="1185840" y="585360"/>
              <a:ext cx="6541920" cy="706680"/>
              <a:chOff x="1185840" y="585360"/>
              <a:chExt cx="6541920" cy="706680"/>
            </a:xfrm>
          </p:grpSpPr>
          <p:pic>
            <p:nvPicPr>
              <p:cNvPr id="31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5840" y="585360"/>
                <a:ext cx="654192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1269000" y="677880"/>
                <a:ext cx="63712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clearWatch(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"/>
          <p:cNvSpPr txBox="1"/>
          <p:nvPr/>
        </p:nvSpPr>
        <p:spPr>
          <a:xfrm>
            <a:off x="971280" y="1537920"/>
            <a:ext cx="73818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earWatch()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法终止正在进行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tchPosition()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该方法只能带一个参数。在调用时，其找到之前已经开始了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tch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数并立即停止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earWatch()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法的调用如下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oid navigator.geolocation.clearWatch(watch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324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97172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1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330" name="AutoShape 12"/>
            <p:cNvSpPr/>
            <p:nvPr/>
          </p:nvSpPr>
          <p:spPr>
            <a:xfrm>
              <a:off x="1315080" y="3000240"/>
              <a:ext cx="6584040" cy="6429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AutoShape 3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332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1336680" y="3107520"/>
                <a:ext cx="6525720" cy="4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Map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呈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335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38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339" name="同心圆 5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同心圆 6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342" name="同心圆 8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同心圆 9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同心圆 10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345" name="同心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圆角矩形 11"/>
          <p:cNvSpPr/>
          <p:nvPr/>
        </p:nvSpPr>
        <p:spPr>
          <a:xfrm>
            <a:off x="642960" y="1052640"/>
            <a:ext cx="7632720" cy="496728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3"/>
          <p:cNvGrpSpPr/>
          <p:nvPr/>
        </p:nvGrpSpPr>
        <p:grpSpPr>
          <a:xfrm>
            <a:off x="1185840" y="584280"/>
            <a:ext cx="6541920" cy="707760"/>
            <a:chOff x="1185840" y="584280"/>
            <a:chExt cx="6541920" cy="707760"/>
          </a:xfrm>
        </p:grpSpPr>
        <p:sp>
          <p:nvSpPr>
            <p:cNvPr id="349" name="AutoShape 14"/>
            <p:cNvSpPr/>
            <p:nvPr/>
          </p:nvSpPr>
          <p:spPr>
            <a:xfrm>
              <a:off x="1252800" y="584280"/>
              <a:ext cx="6419160" cy="5781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AutoShape 3"/>
            <p:cNvGrpSpPr/>
            <p:nvPr/>
          </p:nvGrpSpPr>
          <p:grpSpPr>
            <a:xfrm>
              <a:off x="1185840" y="585360"/>
              <a:ext cx="6541920" cy="706680"/>
              <a:chOff x="1185840" y="585360"/>
              <a:chExt cx="6541920" cy="706680"/>
            </a:xfrm>
          </p:grpSpPr>
          <p:pic>
            <p:nvPicPr>
              <p:cNvPr id="35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5840" y="585360"/>
                <a:ext cx="654192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1269000" y="677880"/>
                <a:ext cx="63712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MA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 txBox="1"/>
          <p:nvPr/>
        </p:nvSpPr>
        <p:spPr>
          <a:xfrm>
            <a:off x="817200" y="1625760"/>
            <a:ext cx="843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ogle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script     type=“text/javascript” src="http://maps.google.com/maps/api/js?sensor=fals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script    type="text/javascript“   src="http://api.map.baidu.com/api?v=1.3"&gt;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356" name="同心圆 5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同心圆 6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359" name="同心圆 8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同心圆 9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同心圆 10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362" name="同心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圆角矩形 11"/>
          <p:cNvSpPr/>
          <p:nvPr/>
        </p:nvSpPr>
        <p:spPr>
          <a:xfrm>
            <a:off x="642960" y="1052640"/>
            <a:ext cx="7632720" cy="496728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3"/>
          <p:cNvGrpSpPr/>
          <p:nvPr/>
        </p:nvGrpSpPr>
        <p:grpSpPr>
          <a:xfrm>
            <a:off x="1185840" y="584280"/>
            <a:ext cx="6541920" cy="707760"/>
            <a:chOff x="1185840" y="584280"/>
            <a:chExt cx="6541920" cy="707760"/>
          </a:xfrm>
        </p:grpSpPr>
        <p:sp>
          <p:nvSpPr>
            <p:cNvPr id="366" name="AutoShape 14"/>
            <p:cNvSpPr/>
            <p:nvPr/>
          </p:nvSpPr>
          <p:spPr>
            <a:xfrm>
              <a:off x="1252800" y="584280"/>
              <a:ext cx="6419160" cy="5781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AutoShape 3"/>
            <p:cNvGrpSpPr/>
            <p:nvPr/>
          </p:nvGrpSpPr>
          <p:grpSpPr>
            <a:xfrm>
              <a:off x="1185840" y="585360"/>
              <a:ext cx="6541920" cy="706680"/>
              <a:chOff x="1185840" y="585360"/>
              <a:chExt cx="6541920" cy="706680"/>
            </a:xfrm>
          </p:grpSpPr>
          <p:pic>
            <p:nvPicPr>
              <p:cNvPr id="36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5840" y="585360"/>
                <a:ext cx="654192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1269000" y="677880"/>
                <a:ext cx="63712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MA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0" name="内容占位符 1" descr=""/>
          <p:cNvPicPr/>
          <p:nvPr/>
        </p:nvPicPr>
        <p:blipFill>
          <a:blip r:embed="rId4"/>
          <a:stretch/>
        </p:blipFill>
        <p:spPr>
          <a:xfrm>
            <a:off x="668160" y="1630440"/>
            <a:ext cx="7891560" cy="332892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2" descr=""/>
          <p:cNvPicPr/>
          <p:nvPr/>
        </p:nvPicPr>
        <p:blipFill>
          <a:blip r:embed="rId5"/>
          <a:stretch/>
        </p:blipFill>
        <p:spPr>
          <a:xfrm>
            <a:off x="455760" y="5084640"/>
            <a:ext cx="7904160" cy="7653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3"/>
          <p:cNvSpPr/>
          <p:nvPr/>
        </p:nvSpPr>
        <p:spPr>
          <a:xfrm>
            <a:off x="3708360" y="26701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gle m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属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7"/>
          <p:cNvSpPr/>
          <p:nvPr/>
        </p:nvSpPr>
        <p:spPr>
          <a:xfrm>
            <a:off x="3106800" y="4292640"/>
            <a:ext cx="12031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947880" y="2060640"/>
            <a:ext cx="3816360" cy="310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027320" y="3592440"/>
            <a:ext cx="2738520" cy="267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5651640" y="1327320"/>
            <a:ext cx="2952720" cy="26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3033720" y="344520"/>
            <a:ext cx="1987560" cy="213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376" name="同心圆 5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同心圆 6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379" name="同心圆 8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9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同心圆 10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382" name="同心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圆角矩形 11"/>
          <p:cNvSpPr/>
          <p:nvPr/>
        </p:nvSpPr>
        <p:spPr>
          <a:xfrm>
            <a:off x="642960" y="1052640"/>
            <a:ext cx="7632720" cy="496728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3"/>
          <p:cNvGrpSpPr/>
          <p:nvPr/>
        </p:nvGrpSpPr>
        <p:grpSpPr>
          <a:xfrm>
            <a:off x="1185840" y="584280"/>
            <a:ext cx="6541920" cy="707760"/>
            <a:chOff x="1185840" y="584280"/>
            <a:chExt cx="6541920" cy="707760"/>
          </a:xfrm>
        </p:grpSpPr>
        <p:sp>
          <p:nvSpPr>
            <p:cNvPr id="386" name="AutoShape 14"/>
            <p:cNvSpPr/>
            <p:nvPr/>
          </p:nvSpPr>
          <p:spPr>
            <a:xfrm>
              <a:off x="1252800" y="584280"/>
              <a:ext cx="6419160" cy="5781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AutoShape 3"/>
            <p:cNvGrpSpPr/>
            <p:nvPr/>
          </p:nvGrpSpPr>
          <p:grpSpPr>
            <a:xfrm>
              <a:off x="1185840" y="585360"/>
              <a:ext cx="6541920" cy="706680"/>
              <a:chOff x="1185840" y="585360"/>
              <a:chExt cx="6541920" cy="706680"/>
            </a:xfrm>
          </p:grpSpPr>
          <p:pic>
            <p:nvPicPr>
              <p:cNvPr id="38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5840" y="585360"/>
                <a:ext cx="654192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1269000" y="677880"/>
                <a:ext cx="63712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MA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"/>
          <p:cNvSpPr txBox="1"/>
          <p:nvPr/>
        </p:nvSpPr>
        <p:spPr>
          <a:xfrm>
            <a:off x="1803240" y="1676520"/>
            <a:ext cx="738216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Type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四种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92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393" name="同心圆 5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同心圆 6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396" name="同心圆 8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同心圆 9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同心圆 10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399" name="同心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圆角矩形 11"/>
          <p:cNvSpPr/>
          <p:nvPr/>
        </p:nvSpPr>
        <p:spPr>
          <a:xfrm>
            <a:off x="642960" y="1052640"/>
            <a:ext cx="7632720" cy="496728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3"/>
          <p:cNvGrpSpPr/>
          <p:nvPr/>
        </p:nvGrpSpPr>
        <p:grpSpPr>
          <a:xfrm>
            <a:off x="1185840" y="584280"/>
            <a:ext cx="6541920" cy="707760"/>
            <a:chOff x="1185840" y="584280"/>
            <a:chExt cx="6541920" cy="707760"/>
          </a:xfrm>
        </p:grpSpPr>
        <p:sp>
          <p:nvSpPr>
            <p:cNvPr id="403" name="AutoShape 14"/>
            <p:cNvSpPr/>
            <p:nvPr/>
          </p:nvSpPr>
          <p:spPr>
            <a:xfrm>
              <a:off x="1252800" y="584280"/>
              <a:ext cx="6419160" cy="5781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AutoShape 3"/>
            <p:cNvGrpSpPr/>
            <p:nvPr/>
          </p:nvGrpSpPr>
          <p:grpSpPr>
            <a:xfrm>
              <a:off x="1185840" y="585360"/>
              <a:ext cx="6541920" cy="706680"/>
              <a:chOff x="1185840" y="585360"/>
              <a:chExt cx="6541920" cy="706680"/>
            </a:xfrm>
          </p:grpSpPr>
          <p:pic>
            <p:nvPicPr>
              <p:cNvPr id="40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5840" y="585360"/>
                <a:ext cx="654192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1269000" y="677880"/>
                <a:ext cx="63712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MA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7" name="内容占位符 3" descr=""/>
          <p:cNvPicPr/>
          <p:nvPr/>
        </p:nvPicPr>
        <p:blipFill>
          <a:blip r:embed="rId4"/>
          <a:stretch/>
        </p:blipFill>
        <p:spPr>
          <a:xfrm>
            <a:off x="801720" y="2206800"/>
            <a:ext cx="7520040" cy="35463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1185840" y="154944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制坐标标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-36360" y="60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30"/>
          <p:cNvGrpSpPr/>
          <p:nvPr/>
        </p:nvGrpSpPr>
        <p:grpSpPr>
          <a:xfrm>
            <a:off x="8134200" y="1549440"/>
            <a:ext cx="1225440" cy="565200"/>
            <a:chOff x="8134200" y="1549440"/>
            <a:chExt cx="1225440" cy="565200"/>
          </a:xfrm>
        </p:grpSpPr>
        <p:sp>
          <p:nvSpPr>
            <p:cNvPr id="411" name="同心圆 5"/>
            <p:cNvSpPr/>
            <p:nvPr/>
          </p:nvSpPr>
          <p:spPr>
            <a:xfrm>
              <a:off x="8134200" y="167652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同心圆 6"/>
            <p:cNvSpPr/>
            <p:nvPr/>
          </p:nvSpPr>
          <p:spPr>
            <a:xfrm>
              <a:off x="9009000" y="154944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1"/>
          <p:cNvGrpSpPr/>
          <p:nvPr/>
        </p:nvGrpSpPr>
        <p:grpSpPr>
          <a:xfrm>
            <a:off x="-297000" y="1355760"/>
            <a:ext cx="1101600" cy="4914720"/>
            <a:chOff x="-297000" y="1355760"/>
            <a:chExt cx="1101600" cy="4914720"/>
          </a:xfrm>
        </p:grpSpPr>
        <p:sp>
          <p:nvSpPr>
            <p:cNvPr id="414" name="同心圆 8"/>
            <p:cNvSpPr/>
            <p:nvPr/>
          </p:nvSpPr>
          <p:spPr>
            <a:xfrm>
              <a:off x="-297000" y="1355760"/>
              <a:ext cx="96516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同心圆 9"/>
            <p:cNvSpPr/>
            <p:nvPr/>
          </p:nvSpPr>
          <p:spPr>
            <a:xfrm>
              <a:off x="-203040" y="5769000"/>
              <a:ext cx="5032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同心圆 10"/>
            <p:cNvGrpSpPr/>
            <p:nvPr/>
          </p:nvGrpSpPr>
          <p:grpSpPr>
            <a:xfrm>
              <a:off x="371520" y="2457360"/>
              <a:ext cx="433080" cy="426960"/>
              <a:chOff x="371520" y="2457360"/>
              <a:chExt cx="433080" cy="426960"/>
            </a:xfrm>
          </p:grpSpPr>
          <p:pic>
            <p:nvPicPr>
              <p:cNvPr id="417" name="同心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2457360"/>
                <a:ext cx="4330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435960" y="2518200"/>
                <a:ext cx="30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圆角矩形 11"/>
          <p:cNvSpPr/>
          <p:nvPr/>
        </p:nvSpPr>
        <p:spPr>
          <a:xfrm>
            <a:off x="642960" y="1052640"/>
            <a:ext cx="7632720" cy="496728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1185840" y="584280"/>
            <a:ext cx="6541920" cy="707760"/>
            <a:chOff x="1185840" y="584280"/>
            <a:chExt cx="6541920" cy="707760"/>
          </a:xfrm>
        </p:grpSpPr>
        <p:sp>
          <p:nvSpPr>
            <p:cNvPr id="421" name="AutoShape 14"/>
            <p:cNvSpPr/>
            <p:nvPr/>
          </p:nvSpPr>
          <p:spPr>
            <a:xfrm>
              <a:off x="1252800" y="584280"/>
              <a:ext cx="6419160" cy="5781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AutoShape 3"/>
            <p:cNvGrpSpPr/>
            <p:nvPr/>
          </p:nvGrpSpPr>
          <p:grpSpPr>
            <a:xfrm>
              <a:off x="1185840" y="585360"/>
              <a:ext cx="6541920" cy="706680"/>
              <a:chOff x="1185840" y="585360"/>
              <a:chExt cx="6541920" cy="706680"/>
            </a:xfrm>
          </p:grpSpPr>
          <p:pic>
            <p:nvPicPr>
              <p:cNvPr id="42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5840" y="585360"/>
                <a:ext cx="654192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1269000" y="677880"/>
                <a:ext cx="63712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MA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5" name="table" descr=""/>
          <p:cNvPicPr/>
          <p:nvPr/>
        </p:nvPicPr>
        <p:blipFill>
          <a:blip r:embed="rId4"/>
          <a:stretch/>
        </p:blipFill>
        <p:spPr>
          <a:xfrm>
            <a:off x="179280" y="2530440"/>
            <a:ext cx="8643960" cy="121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未标题1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AutoShape 29"/>
          <p:cNvSpPr/>
          <p:nvPr/>
        </p:nvSpPr>
        <p:spPr>
          <a:xfrm>
            <a:off x="1986120" y="1333440"/>
            <a:ext cx="5410080" cy="4191120"/>
          </a:xfrm>
          <a:prstGeom prst="foldedCorner">
            <a:avLst>
              <a:gd name="adj" fmla="val 12500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1908000" y="865080"/>
            <a:ext cx="5472360" cy="7081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920880" y="1433520"/>
            <a:ext cx="3528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3510000" y="248904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0"/>
          <p:cNvSpPr/>
          <p:nvPr/>
        </p:nvSpPr>
        <p:spPr>
          <a:xfrm>
            <a:off x="1487520" y="5219640"/>
            <a:ext cx="6168960" cy="42552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1"/>
          <p:cNvSpPr/>
          <p:nvPr/>
        </p:nvSpPr>
        <p:spPr>
          <a:xfrm>
            <a:off x="3011400" y="4888080"/>
            <a:ext cx="3121200" cy="72540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2"/>
          <p:cNvSpPr/>
          <p:nvPr/>
        </p:nvSpPr>
        <p:spPr>
          <a:xfrm>
            <a:off x="652320" y="5322960"/>
            <a:ext cx="7839360" cy="33156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5"/>
          <p:cNvSpPr/>
          <p:nvPr/>
        </p:nvSpPr>
        <p:spPr>
          <a:xfrm>
            <a:off x="2184480" y="5019840"/>
            <a:ext cx="4775040" cy="60624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等腰三角形 13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等腰三角形 1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等腰三角形 16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等腰三角形 17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等腰三角形 18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等腰三角形 19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等腰三角形 23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等腰三角形 2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等腰三角形 26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等腰三角形 27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 repeatCount="500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4" repeatCount="5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 repeatCount="500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 repeatCount="5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 repeatCount="5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4" repeatCount="5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 repeatCount="5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4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00" autoRev="1" fill="hold"/>
                                        <p:tgtEl>
                                          <p:spTgt spid="4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3"/>
          <p:cNvGrpSpPr/>
          <p:nvPr/>
        </p:nvGrpSpPr>
        <p:grpSpPr>
          <a:xfrm>
            <a:off x="1042920" y="2327400"/>
            <a:ext cx="4536720" cy="503280"/>
            <a:chOff x="1042920" y="2327400"/>
            <a:chExt cx="4536720" cy="503280"/>
          </a:xfrm>
        </p:grpSpPr>
        <p:grpSp>
          <p:nvGrpSpPr>
            <p:cNvPr id="68" name="Group 4"/>
            <p:cNvGrpSpPr/>
            <p:nvPr/>
          </p:nvGrpSpPr>
          <p:grpSpPr>
            <a:xfrm>
              <a:off x="1130040" y="2327400"/>
              <a:ext cx="4449600" cy="483840"/>
              <a:chOff x="1130040" y="2327400"/>
              <a:chExt cx="4449600" cy="483840"/>
            </a:xfrm>
          </p:grpSpPr>
          <p:sp>
            <p:nvSpPr>
              <p:cNvPr id="69" name="Rectangle 5"/>
              <p:cNvSpPr/>
              <p:nvPr/>
            </p:nvSpPr>
            <p:spPr>
              <a:xfrm>
                <a:off x="1476000" y="2327400"/>
                <a:ext cx="41036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地理定位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Picture 6" descr="Molecular_compound3 [转换]"/>
              <p:cNvPicPr/>
              <p:nvPr/>
            </p:nvPicPr>
            <p:blipFill>
              <a:blip r:embed="rId2"/>
              <a:srcRect l="56552" t="0" r="0" b="0"/>
              <a:stretch/>
            </p:blipFill>
            <p:spPr>
              <a:xfrm>
                <a:off x="1130040" y="2443320"/>
                <a:ext cx="360360" cy="30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Oval 7"/>
            <p:cNvSpPr/>
            <p:nvPr/>
          </p:nvSpPr>
          <p:spPr>
            <a:xfrm>
              <a:off x="1042920" y="2759400"/>
              <a:ext cx="338436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3"/>
          <p:cNvGrpSpPr/>
          <p:nvPr/>
        </p:nvGrpSpPr>
        <p:grpSpPr>
          <a:xfrm>
            <a:off x="2354400" y="3138480"/>
            <a:ext cx="5147280" cy="580680"/>
            <a:chOff x="2354400" y="3138480"/>
            <a:chExt cx="5147280" cy="580680"/>
          </a:xfrm>
        </p:grpSpPr>
        <p:grpSp>
          <p:nvGrpSpPr>
            <p:cNvPr id="73" name="Group 14"/>
            <p:cNvGrpSpPr/>
            <p:nvPr/>
          </p:nvGrpSpPr>
          <p:grpSpPr>
            <a:xfrm>
              <a:off x="2570040" y="3138480"/>
              <a:ext cx="4931640" cy="507960"/>
              <a:chOff x="2570040" y="3138480"/>
              <a:chExt cx="4931640" cy="507960"/>
            </a:xfrm>
          </p:grpSpPr>
          <p:sp>
            <p:nvSpPr>
              <p:cNvPr id="74" name="Rectangle 15"/>
              <p:cNvSpPr/>
              <p:nvPr/>
            </p:nvSpPr>
            <p:spPr>
              <a:xfrm>
                <a:off x="2930040" y="3138480"/>
                <a:ext cx="457164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Geolocation AP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" name="Picture 16" descr="Molecular_compound3 [转换]"/>
              <p:cNvPicPr/>
              <p:nvPr/>
            </p:nvPicPr>
            <p:blipFill>
              <a:blip r:embed="rId3"/>
              <a:srcRect l="56552" t="0" r="0" b="0"/>
              <a:stretch/>
            </p:blipFill>
            <p:spPr>
              <a:xfrm>
                <a:off x="2570040" y="3282840"/>
                <a:ext cx="360000" cy="30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Oval 17"/>
            <p:cNvSpPr/>
            <p:nvPr/>
          </p:nvSpPr>
          <p:spPr>
            <a:xfrm>
              <a:off x="2354400" y="3647520"/>
              <a:ext cx="3384360" cy="716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"/>
          <p:cNvGrpSpPr/>
          <p:nvPr/>
        </p:nvGrpSpPr>
        <p:grpSpPr>
          <a:xfrm>
            <a:off x="3600360" y="4267080"/>
            <a:ext cx="5234040" cy="576360"/>
            <a:chOff x="3600360" y="4267080"/>
            <a:chExt cx="5234040" cy="576360"/>
          </a:xfrm>
        </p:grpSpPr>
        <p:grpSp>
          <p:nvGrpSpPr>
            <p:cNvPr id="78" name="Group 8"/>
            <p:cNvGrpSpPr/>
            <p:nvPr/>
          </p:nvGrpSpPr>
          <p:grpSpPr>
            <a:xfrm>
              <a:off x="3600360" y="4267080"/>
              <a:ext cx="4139280" cy="576360"/>
              <a:chOff x="3600360" y="4267080"/>
              <a:chExt cx="4139280" cy="576360"/>
            </a:xfrm>
          </p:grpSpPr>
          <p:grpSp>
            <p:nvGrpSpPr>
              <p:cNvPr id="79" name="Group 9"/>
              <p:cNvGrpSpPr/>
              <p:nvPr/>
            </p:nvGrpSpPr>
            <p:grpSpPr>
              <a:xfrm>
                <a:off x="3673080" y="4267080"/>
                <a:ext cx="4066560" cy="456480"/>
                <a:chOff x="3673080" y="4267080"/>
                <a:chExt cx="4066560" cy="456480"/>
              </a:xfrm>
            </p:grpSpPr>
            <p:sp>
              <p:nvSpPr>
                <p:cNvPr id="80" name="Rectangle 10"/>
                <p:cNvSpPr/>
                <p:nvPr/>
              </p:nvSpPr>
              <p:spPr>
                <a:xfrm>
                  <a:off x="4068000" y="4267080"/>
                  <a:ext cx="367164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" name="Picture 11" descr="Molecular_compound3 [转换]"/>
                <p:cNvPicPr/>
                <p:nvPr/>
              </p:nvPicPr>
              <p:blipFill>
                <a:blip r:embed="rId4"/>
                <a:srcRect l="56552" t="0" r="0" b="0"/>
                <a:stretch/>
              </p:blipFill>
              <p:spPr>
                <a:xfrm>
                  <a:off x="3673080" y="4397400"/>
                  <a:ext cx="360000" cy="30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" name="Oval 12"/>
              <p:cNvSpPr/>
              <p:nvPr/>
            </p:nvSpPr>
            <p:spPr>
              <a:xfrm>
                <a:off x="3600360" y="4772160"/>
                <a:ext cx="3384360" cy="7128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15"/>
            <p:cNvSpPr/>
            <p:nvPr/>
          </p:nvSpPr>
          <p:spPr>
            <a:xfrm>
              <a:off x="4262760" y="4267080"/>
              <a:ext cx="45716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686"/>
                  </a:solidFill>
                  <a:latin typeface="Arial"/>
                  <a:ea typeface="黑体"/>
                </a:rPr>
                <a:t>map</a:t>
              </a:r>
              <a:r>
                <a:rPr b="1" lang="zh-CN" sz="3200" spc="-1" strike="noStrike">
                  <a:solidFill>
                    <a:srgbClr val="003686"/>
                  </a:solidFill>
                  <a:latin typeface="Arial"/>
                  <a:ea typeface="黑体"/>
                </a:rPr>
                <a:t>呈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88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97172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94" name="AutoShape 12"/>
            <p:cNvSpPr/>
            <p:nvPr/>
          </p:nvSpPr>
          <p:spPr>
            <a:xfrm>
              <a:off x="1315080" y="2997360"/>
              <a:ext cx="6584040" cy="64548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AutoShape 3"/>
            <p:cNvGrpSpPr/>
            <p:nvPr/>
          </p:nvGrpSpPr>
          <p:grpSpPr>
            <a:xfrm>
              <a:off x="1246320" y="2999880"/>
              <a:ext cx="6710040" cy="789120"/>
              <a:chOff x="1246320" y="2999880"/>
              <a:chExt cx="6710040" cy="789120"/>
            </a:xfrm>
          </p:grpSpPr>
          <p:pic>
            <p:nvPicPr>
              <p:cNvPr id="96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9880"/>
                <a:ext cx="6710040" cy="78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1336680" y="3104640"/>
                <a:ext cx="6525720" cy="42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地理定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99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02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同心圆 4"/>
          <p:cNvSpPr/>
          <p:nvPr/>
        </p:nvSpPr>
        <p:spPr>
          <a:xfrm>
            <a:off x="-274680" y="1393920"/>
            <a:ext cx="965160" cy="963360"/>
          </a:xfrm>
          <a:custGeom>
            <a:avLst/>
            <a:gdLst/>
            <a:ahLst/>
            <a:rect l="l" t="t" r="r" b="b"/>
            <a:pathLst>
              <a:path w="965201" h="963613">
                <a:moveTo>
                  <a:pt x="0" y="481807"/>
                </a:moveTo>
                <a:cubicBezTo>
                  <a:pt x="0" y="215712"/>
                  <a:pt x="216068" y="0"/>
                  <a:pt x="482601" y="0"/>
                </a:cubicBezTo>
                <a:cubicBezTo>
                  <a:pt x="749134" y="0"/>
                  <a:pt x="965202" y="215712"/>
                  <a:pt x="965202" y="481807"/>
                </a:cubicBezTo>
                <a:cubicBezTo>
                  <a:pt x="965202" y="747902"/>
                  <a:pt x="749134" y="963614"/>
                  <a:pt x="482601" y="963614"/>
                </a:cubicBezTo>
                <a:cubicBezTo>
                  <a:pt x="216068" y="963614"/>
                  <a:pt x="0" y="747902"/>
                  <a:pt x="0" y="481807"/>
                </a:cubicBezTo>
                <a:close/>
                <a:moveTo>
                  <a:pt x="86571" y="481807"/>
                </a:moveTo>
                <a:cubicBezTo>
                  <a:pt x="86571" y="700090"/>
                  <a:pt x="263880" y="877043"/>
                  <a:pt x="482601" y="877043"/>
                </a:cubicBezTo>
                <a:cubicBezTo>
                  <a:pt x="701322" y="877043"/>
                  <a:pt x="878631" y="700090"/>
                  <a:pt x="878631" y="481807"/>
                </a:cubicBezTo>
                <a:cubicBezTo>
                  <a:pt x="878631" y="263524"/>
                  <a:pt x="701322" y="86571"/>
                  <a:pt x="482601" y="86571"/>
                </a:cubicBezTo>
                <a:cubicBezTo>
                  <a:pt x="263880" y="86571"/>
                  <a:pt x="86571" y="263524"/>
                  <a:pt x="86571" y="481807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5"/>
          <p:cNvSpPr/>
          <p:nvPr/>
        </p:nvSpPr>
        <p:spPr>
          <a:xfrm>
            <a:off x="-181080" y="5807160"/>
            <a:ext cx="503280" cy="501480"/>
          </a:xfrm>
          <a:custGeom>
            <a:avLst/>
            <a:gdLst/>
            <a:ahLst/>
            <a:rect l="l" t="t" r="r" b="b"/>
            <a:pathLst>
              <a:path w="503238" h="501650">
                <a:moveTo>
                  <a:pt x="0" y="250825"/>
                </a:moveTo>
                <a:cubicBezTo>
                  <a:pt x="0" y="112298"/>
                  <a:pt x="112654" y="0"/>
                  <a:pt x="251619" y="0"/>
                </a:cubicBezTo>
                <a:cubicBezTo>
                  <a:pt x="390584" y="0"/>
                  <a:pt x="503238" y="112298"/>
                  <a:pt x="503238" y="250825"/>
                </a:cubicBezTo>
                <a:cubicBezTo>
                  <a:pt x="503238" y="389352"/>
                  <a:pt x="390584" y="501650"/>
                  <a:pt x="251619" y="501650"/>
                </a:cubicBezTo>
                <a:cubicBezTo>
                  <a:pt x="112654" y="501650"/>
                  <a:pt x="0" y="389352"/>
                  <a:pt x="0" y="250825"/>
                </a:cubicBezTo>
                <a:close/>
                <a:moveTo>
                  <a:pt x="45068" y="250825"/>
                </a:moveTo>
                <a:cubicBezTo>
                  <a:pt x="45068" y="364461"/>
                  <a:pt x="137544" y="456582"/>
                  <a:pt x="251619" y="456582"/>
                </a:cubicBezTo>
                <a:cubicBezTo>
                  <a:pt x="365694" y="456582"/>
                  <a:pt x="458170" y="364461"/>
                  <a:pt x="458170" y="250825"/>
                </a:cubicBezTo>
                <a:cubicBezTo>
                  <a:pt x="458170" y="137189"/>
                  <a:pt x="365694" y="45068"/>
                  <a:pt x="251619" y="45068"/>
                </a:cubicBezTo>
                <a:cubicBezTo>
                  <a:pt x="137544" y="45068"/>
                  <a:pt x="45068" y="137189"/>
                  <a:pt x="45068" y="2508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同心圆 6"/>
          <p:cNvGrpSpPr/>
          <p:nvPr/>
        </p:nvGrpSpPr>
        <p:grpSpPr>
          <a:xfrm>
            <a:off x="396720" y="2494080"/>
            <a:ext cx="432000" cy="431640"/>
            <a:chOff x="396720" y="2494080"/>
            <a:chExt cx="432000" cy="431640"/>
          </a:xfrm>
        </p:grpSpPr>
        <p:pic>
          <p:nvPicPr>
            <p:cNvPr id="106" name="同心圆 6" descr=""/>
            <p:cNvPicPr/>
            <p:nvPr/>
          </p:nvPicPr>
          <p:blipFill>
            <a:blip r:embed="rId2"/>
            <a:stretch/>
          </p:blipFill>
          <p:spPr>
            <a:xfrm>
              <a:off x="396720" y="249408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8640" y="255600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438150" h="438150">
                <a:moveTo>
                  <a:pt x="0" y="219075"/>
                </a:moveTo>
                <a:cubicBezTo>
                  <a:pt x="0" y="98083"/>
                  <a:pt x="98083" y="0"/>
                  <a:pt x="219075" y="0"/>
                </a:cubicBezTo>
                <a:cubicBezTo>
                  <a:pt x="340067" y="0"/>
                  <a:pt x="438150" y="98083"/>
                  <a:pt x="438150" y="219075"/>
                </a:cubicBezTo>
                <a:cubicBezTo>
                  <a:pt x="438150" y="340067"/>
                  <a:pt x="340067" y="438150"/>
                  <a:pt x="219075" y="438150"/>
                </a:cubicBezTo>
                <a:cubicBezTo>
                  <a:pt x="98083" y="438150"/>
                  <a:pt x="0" y="340067"/>
                  <a:pt x="0" y="219075"/>
                </a:cubicBezTo>
                <a:close/>
                <a:moveTo>
                  <a:pt x="39363" y="219075"/>
                </a:moveTo>
                <a:cubicBezTo>
                  <a:pt x="39363" y="318327"/>
                  <a:pt x="119823" y="398787"/>
                  <a:pt x="219075" y="398787"/>
                </a:cubicBezTo>
                <a:cubicBezTo>
                  <a:pt x="318327" y="398787"/>
                  <a:pt x="398787" y="318327"/>
                  <a:pt x="398787" y="219075"/>
                </a:cubicBezTo>
                <a:cubicBezTo>
                  <a:pt x="398787" y="119823"/>
                  <a:pt x="318327" y="39363"/>
                  <a:pt x="219075" y="39363"/>
                </a:cubicBezTo>
                <a:cubicBezTo>
                  <a:pt x="119823" y="39363"/>
                  <a:pt x="39363" y="119823"/>
                  <a:pt x="39363" y="219075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1101600" y="692280"/>
            <a:ext cx="6710040" cy="791640"/>
            <a:chOff x="1101600" y="692280"/>
            <a:chExt cx="6710040" cy="791640"/>
          </a:xfrm>
        </p:grpSpPr>
        <p:sp>
          <p:nvSpPr>
            <p:cNvPr id="113" name="AutoShape 14"/>
            <p:cNvSpPr/>
            <p:nvPr/>
          </p:nvSpPr>
          <p:spPr>
            <a:xfrm>
              <a:off x="1172520" y="692280"/>
              <a:ext cx="6583680" cy="6487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AutoShape 3"/>
            <p:cNvGrpSpPr/>
            <p:nvPr/>
          </p:nvGrpSpPr>
          <p:grpSpPr>
            <a:xfrm>
              <a:off x="1101600" y="696240"/>
              <a:ext cx="6710040" cy="787680"/>
              <a:chOff x="1101600" y="696240"/>
              <a:chExt cx="6710040" cy="787680"/>
            </a:xfrm>
          </p:grpSpPr>
          <p:pic>
            <p:nvPicPr>
              <p:cNvPr id="11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6240"/>
                <a:ext cx="671004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93760" y="801000"/>
                <a:ext cx="652572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地理定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Rectangle 18"/>
          <p:cNvSpPr/>
          <p:nvPr/>
        </p:nvSpPr>
        <p:spPr>
          <a:xfrm>
            <a:off x="1258920" y="1844640"/>
            <a:ext cx="6697800" cy="27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地理定位不属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HTML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Geolocation  AP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被用来确定和分享地理位置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AP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返回经度和纬度坐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是企业可用来在这一坐标附近的区域提供服务的信息，这类服务通常被称作基于位置的服务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location-based servi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LB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9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同心圆 4"/>
          <p:cNvSpPr/>
          <p:nvPr/>
        </p:nvSpPr>
        <p:spPr>
          <a:xfrm>
            <a:off x="-274680" y="1393920"/>
            <a:ext cx="965160" cy="963360"/>
          </a:xfrm>
          <a:custGeom>
            <a:avLst/>
            <a:gdLst/>
            <a:ahLst/>
            <a:rect l="l" t="t" r="r" b="b"/>
            <a:pathLst>
              <a:path w="965201" h="963613">
                <a:moveTo>
                  <a:pt x="0" y="481807"/>
                </a:moveTo>
                <a:cubicBezTo>
                  <a:pt x="0" y="215712"/>
                  <a:pt x="216068" y="0"/>
                  <a:pt x="482601" y="0"/>
                </a:cubicBezTo>
                <a:cubicBezTo>
                  <a:pt x="749134" y="0"/>
                  <a:pt x="965202" y="215712"/>
                  <a:pt x="965202" y="481807"/>
                </a:cubicBezTo>
                <a:cubicBezTo>
                  <a:pt x="965202" y="747902"/>
                  <a:pt x="749134" y="963614"/>
                  <a:pt x="482601" y="963614"/>
                </a:cubicBezTo>
                <a:cubicBezTo>
                  <a:pt x="216068" y="963614"/>
                  <a:pt x="0" y="747902"/>
                  <a:pt x="0" y="481807"/>
                </a:cubicBezTo>
                <a:close/>
                <a:moveTo>
                  <a:pt x="86571" y="481807"/>
                </a:moveTo>
                <a:cubicBezTo>
                  <a:pt x="86571" y="700090"/>
                  <a:pt x="263880" y="877043"/>
                  <a:pt x="482601" y="877043"/>
                </a:cubicBezTo>
                <a:cubicBezTo>
                  <a:pt x="701322" y="877043"/>
                  <a:pt x="878631" y="700090"/>
                  <a:pt x="878631" y="481807"/>
                </a:cubicBezTo>
                <a:cubicBezTo>
                  <a:pt x="878631" y="263524"/>
                  <a:pt x="701322" y="86571"/>
                  <a:pt x="482601" y="86571"/>
                </a:cubicBezTo>
                <a:cubicBezTo>
                  <a:pt x="263880" y="86571"/>
                  <a:pt x="86571" y="263524"/>
                  <a:pt x="86571" y="481807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同心圆 5"/>
          <p:cNvSpPr/>
          <p:nvPr/>
        </p:nvSpPr>
        <p:spPr>
          <a:xfrm>
            <a:off x="-181080" y="5807160"/>
            <a:ext cx="503280" cy="501480"/>
          </a:xfrm>
          <a:custGeom>
            <a:avLst/>
            <a:gdLst/>
            <a:ahLst/>
            <a:rect l="l" t="t" r="r" b="b"/>
            <a:pathLst>
              <a:path w="503238" h="501650">
                <a:moveTo>
                  <a:pt x="0" y="250825"/>
                </a:moveTo>
                <a:cubicBezTo>
                  <a:pt x="0" y="112298"/>
                  <a:pt x="112654" y="0"/>
                  <a:pt x="251619" y="0"/>
                </a:cubicBezTo>
                <a:cubicBezTo>
                  <a:pt x="390584" y="0"/>
                  <a:pt x="503238" y="112298"/>
                  <a:pt x="503238" y="250825"/>
                </a:cubicBezTo>
                <a:cubicBezTo>
                  <a:pt x="503238" y="389352"/>
                  <a:pt x="390584" y="501650"/>
                  <a:pt x="251619" y="501650"/>
                </a:cubicBezTo>
                <a:cubicBezTo>
                  <a:pt x="112654" y="501650"/>
                  <a:pt x="0" y="389352"/>
                  <a:pt x="0" y="250825"/>
                </a:cubicBezTo>
                <a:close/>
                <a:moveTo>
                  <a:pt x="45068" y="250825"/>
                </a:moveTo>
                <a:cubicBezTo>
                  <a:pt x="45068" y="364461"/>
                  <a:pt x="137544" y="456582"/>
                  <a:pt x="251619" y="456582"/>
                </a:cubicBezTo>
                <a:cubicBezTo>
                  <a:pt x="365694" y="456582"/>
                  <a:pt x="458170" y="364461"/>
                  <a:pt x="458170" y="250825"/>
                </a:cubicBezTo>
                <a:cubicBezTo>
                  <a:pt x="458170" y="137189"/>
                  <a:pt x="365694" y="45068"/>
                  <a:pt x="251619" y="45068"/>
                </a:cubicBezTo>
                <a:cubicBezTo>
                  <a:pt x="137544" y="45068"/>
                  <a:pt x="45068" y="137189"/>
                  <a:pt x="45068" y="2508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同心圆 6"/>
          <p:cNvGrpSpPr/>
          <p:nvPr/>
        </p:nvGrpSpPr>
        <p:grpSpPr>
          <a:xfrm>
            <a:off x="396720" y="2494080"/>
            <a:ext cx="432000" cy="431640"/>
            <a:chOff x="396720" y="2494080"/>
            <a:chExt cx="432000" cy="431640"/>
          </a:xfrm>
        </p:grpSpPr>
        <p:pic>
          <p:nvPicPr>
            <p:cNvPr id="123" name="同心圆 6" descr=""/>
            <p:cNvPicPr/>
            <p:nvPr/>
          </p:nvPicPr>
          <p:blipFill>
            <a:blip r:embed="rId2"/>
            <a:stretch/>
          </p:blipFill>
          <p:spPr>
            <a:xfrm>
              <a:off x="396720" y="249408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8640" y="255600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438150" h="438150">
                <a:moveTo>
                  <a:pt x="0" y="219075"/>
                </a:moveTo>
                <a:cubicBezTo>
                  <a:pt x="0" y="98083"/>
                  <a:pt x="98083" y="0"/>
                  <a:pt x="219075" y="0"/>
                </a:cubicBezTo>
                <a:cubicBezTo>
                  <a:pt x="340067" y="0"/>
                  <a:pt x="438150" y="98083"/>
                  <a:pt x="438150" y="219075"/>
                </a:cubicBezTo>
                <a:cubicBezTo>
                  <a:pt x="438150" y="340067"/>
                  <a:pt x="340067" y="438150"/>
                  <a:pt x="219075" y="438150"/>
                </a:cubicBezTo>
                <a:cubicBezTo>
                  <a:pt x="98083" y="438150"/>
                  <a:pt x="0" y="340067"/>
                  <a:pt x="0" y="219075"/>
                </a:cubicBezTo>
                <a:close/>
                <a:moveTo>
                  <a:pt x="39363" y="219075"/>
                </a:moveTo>
                <a:cubicBezTo>
                  <a:pt x="39363" y="318327"/>
                  <a:pt x="119823" y="398787"/>
                  <a:pt x="219075" y="398787"/>
                </a:cubicBezTo>
                <a:cubicBezTo>
                  <a:pt x="318327" y="398787"/>
                  <a:pt x="398787" y="318327"/>
                  <a:pt x="398787" y="219075"/>
                </a:cubicBezTo>
                <a:cubicBezTo>
                  <a:pt x="398787" y="119823"/>
                  <a:pt x="318327" y="39363"/>
                  <a:pt x="219075" y="39363"/>
                </a:cubicBezTo>
                <a:cubicBezTo>
                  <a:pt x="119823" y="39363"/>
                  <a:pt x="39363" y="119823"/>
                  <a:pt x="39363" y="219075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1101600" y="692280"/>
            <a:ext cx="6710040" cy="791640"/>
            <a:chOff x="1101600" y="692280"/>
            <a:chExt cx="6710040" cy="791640"/>
          </a:xfrm>
        </p:grpSpPr>
        <p:sp>
          <p:nvSpPr>
            <p:cNvPr id="130" name="AutoShape 14"/>
            <p:cNvSpPr/>
            <p:nvPr/>
          </p:nvSpPr>
          <p:spPr>
            <a:xfrm>
              <a:off x="1172520" y="692280"/>
              <a:ext cx="6583680" cy="6487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AutoShape 3"/>
            <p:cNvGrpSpPr/>
            <p:nvPr/>
          </p:nvGrpSpPr>
          <p:grpSpPr>
            <a:xfrm>
              <a:off x="1101600" y="696240"/>
              <a:ext cx="6710040" cy="787680"/>
              <a:chOff x="1101600" y="696240"/>
              <a:chExt cx="6710040" cy="787680"/>
            </a:xfrm>
          </p:grpSpPr>
          <p:pic>
            <p:nvPicPr>
              <p:cNvPr id="13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6240"/>
                <a:ext cx="671004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1193760" y="801000"/>
                <a:ext cx="652572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地理定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Rectangle 18"/>
          <p:cNvSpPr/>
          <p:nvPr/>
        </p:nvSpPr>
        <p:spPr>
          <a:xfrm>
            <a:off x="1768320" y="1781280"/>
            <a:ext cx="77536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位方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址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-Fi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SM/CDMA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 rot="16200000">
            <a:off x="3450240" y="3374280"/>
            <a:ext cx="1968480" cy="289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7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同心圆 4"/>
          <p:cNvSpPr/>
          <p:nvPr/>
        </p:nvSpPr>
        <p:spPr>
          <a:xfrm>
            <a:off x="-274680" y="1393920"/>
            <a:ext cx="965160" cy="963360"/>
          </a:xfrm>
          <a:custGeom>
            <a:avLst/>
            <a:gdLst/>
            <a:ahLst/>
            <a:rect l="l" t="t" r="r" b="b"/>
            <a:pathLst>
              <a:path w="965201" h="963613">
                <a:moveTo>
                  <a:pt x="0" y="481807"/>
                </a:moveTo>
                <a:cubicBezTo>
                  <a:pt x="0" y="215712"/>
                  <a:pt x="216068" y="0"/>
                  <a:pt x="482601" y="0"/>
                </a:cubicBezTo>
                <a:cubicBezTo>
                  <a:pt x="749134" y="0"/>
                  <a:pt x="965202" y="215712"/>
                  <a:pt x="965202" y="481807"/>
                </a:cubicBezTo>
                <a:cubicBezTo>
                  <a:pt x="965202" y="747902"/>
                  <a:pt x="749134" y="963614"/>
                  <a:pt x="482601" y="963614"/>
                </a:cubicBezTo>
                <a:cubicBezTo>
                  <a:pt x="216068" y="963614"/>
                  <a:pt x="0" y="747902"/>
                  <a:pt x="0" y="481807"/>
                </a:cubicBezTo>
                <a:close/>
                <a:moveTo>
                  <a:pt x="86571" y="481807"/>
                </a:moveTo>
                <a:cubicBezTo>
                  <a:pt x="86571" y="700090"/>
                  <a:pt x="263880" y="877043"/>
                  <a:pt x="482601" y="877043"/>
                </a:cubicBezTo>
                <a:cubicBezTo>
                  <a:pt x="701322" y="877043"/>
                  <a:pt x="878631" y="700090"/>
                  <a:pt x="878631" y="481807"/>
                </a:cubicBezTo>
                <a:cubicBezTo>
                  <a:pt x="878631" y="263524"/>
                  <a:pt x="701322" y="86571"/>
                  <a:pt x="482601" y="86571"/>
                </a:cubicBezTo>
                <a:cubicBezTo>
                  <a:pt x="263880" y="86571"/>
                  <a:pt x="86571" y="263524"/>
                  <a:pt x="86571" y="481807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同心圆 5"/>
          <p:cNvSpPr/>
          <p:nvPr/>
        </p:nvSpPr>
        <p:spPr>
          <a:xfrm>
            <a:off x="-181080" y="5807160"/>
            <a:ext cx="503280" cy="501480"/>
          </a:xfrm>
          <a:custGeom>
            <a:avLst/>
            <a:gdLst/>
            <a:ahLst/>
            <a:rect l="l" t="t" r="r" b="b"/>
            <a:pathLst>
              <a:path w="503238" h="501650">
                <a:moveTo>
                  <a:pt x="0" y="250825"/>
                </a:moveTo>
                <a:cubicBezTo>
                  <a:pt x="0" y="112298"/>
                  <a:pt x="112654" y="0"/>
                  <a:pt x="251619" y="0"/>
                </a:cubicBezTo>
                <a:cubicBezTo>
                  <a:pt x="390584" y="0"/>
                  <a:pt x="503238" y="112298"/>
                  <a:pt x="503238" y="250825"/>
                </a:cubicBezTo>
                <a:cubicBezTo>
                  <a:pt x="503238" y="389352"/>
                  <a:pt x="390584" y="501650"/>
                  <a:pt x="251619" y="501650"/>
                </a:cubicBezTo>
                <a:cubicBezTo>
                  <a:pt x="112654" y="501650"/>
                  <a:pt x="0" y="389352"/>
                  <a:pt x="0" y="250825"/>
                </a:cubicBezTo>
                <a:close/>
                <a:moveTo>
                  <a:pt x="45068" y="250825"/>
                </a:moveTo>
                <a:cubicBezTo>
                  <a:pt x="45068" y="364461"/>
                  <a:pt x="137544" y="456582"/>
                  <a:pt x="251619" y="456582"/>
                </a:cubicBezTo>
                <a:cubicBezTo>
                  <a:pt x="365694" y="456582"/>
                  <a:pt x="458170" y="364461"/>
                  <a:pt x="458170" y="250825"/>
                </a:cubicBezTo>
                <a:cubicBezTo>
                  <a:pt x="458170" y="137189"/>
                  <a:pt x="365694" y="45068"/>
                  <a:pt x="251619" y="45068"/>
                </a:cubicBezTo>
                <a:cubicBezTo>
                  <a:pt x="137544" y="45068"/>
                  <a:pt x="45068" y="137189"/>
                  <a:pt x="45068" y="2508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同心圆 6"/>
          <p:cNvGrpSpPr/>
          <p:nvPr/>
        </p:nvGrpSpPr>
        <p:grpSpPr>
          <a:xfrm>
            <a:off x="396720" y="2494080"/>
            <a:ext cx="432000" cy="431640"/>
            <a:chOff x="396720" y="2494080"/>
            <a:chExt cx="432000" cy="431640"/>
          </a:xfrm>
        </p:grpSpPr>
        <p:pic>
          <p:nvPicPr>
            <p:cNvPr id="141" name="同心圆 6" descr=""/>
            <p:cNvPicPr/>
            <p:nvPr/>
          </p:nvPicPr>
          <p:blipFill>
            <a:blip r:embed="rId2"/>
            <a:stretch/>
          </p:blipFill>
          <p:spPr>
            <a:xfrm>
              <a:off x="396720" y="249408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8640" y="255600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438150" h="438150">
                <a:moveTo>
                  <a:pt x="0" y="219075"/>
                </a:moveTo>
                <a:cubicBezTo>
                  <a:pt x="0" y="98083"/>
                  <a:pt x="98083" y="0"/>
                  <a:pt x="219075" y="0"/>
                </a:cubicBezTo>
                <a:cubicBezTo>
                  <a:pt x="340067" y="0"/>
                  <a:pt x="438150" y="98083"/>
                  <a:pt x="438150" y="219075"/>
                </a:cubicBezTo>
                <a:cubicBezTo>
                  <a:pt x="438150" y="340067"/>
                  <a:pt x="340067" y="438150"/>
                  <a:pt x="219075" y="438150"/>
                </a:cubicBezTo>
                <a:cubicBezTo>
                  <a:pt x="98083" y="438150"/>
                  <a:pt x="0" y="340067"/>
                  <a:pt x="0" y="219075"/>
                </a:cubicBezTo>
                <a:close/>
                <a:moveTo>
                  <a:pt x="39363" y="219075"/>
                </a:moveTo>
                <a:cubicBezTo>
                  <a:pt x="39363" y="318327"/>
                  <a:pt x="119823" y="398787"/>
                  <a:pt x="219075" y="398787"/>
                </a:cubicBezTo>
                <a:cubicBezTo>
                  <a:pt x="318327" y="398787"/>
                  <a:pt x="398787" y="318327"/>
                  <a:pt x="398787" y="219075"/>
                </a:cubicBezTo>
                <a:cubicBezTo>
                  <a:pt x="398787" y="119823"/>
                  <a:pt x="318327" y="39363"/>
                  <a:pt x="219075" y="39363"/>
                </a:cubicBezTo>
                <a:cubicBezTo>
                  <a:pt x="119823" y="39363"/>
                  <a:pt x="39363" y="119823"/>
                  <a:pt x="39363" y="219075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3"/>
          <p:cNvGrpSpPr/>
          <p:nvPr/>
        </p:nvGrpSpPr>
        <p:grpSpPr>
          <a:xfrm>
            <a:off x="1101600" y="692280"/>
            <a:ext cx="6710040" cy="791640"/>
            <a:chOff x="1101600" y="692280"/>
            <a:chExt cx="6710040" cy="791640"/>
          </a:xfrm>
        </p:grpSpPr>
        <p:sp>
          <p:nvSpPr>
            <p:cNvPr id="148" name="AutoShape 14"/>
            <p:cNvSpPr/>
            <p:nvPr/>
          </p:nvSpPr>
          <p:spPr>
            <a:xfrm>
              <a:off x="1172520" y="692280"/>
              <a:ext cx="6583680" cy="6487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AutoShape 3"/>
            <p:cNvGrpSpPr/>
            <p:nvPr/>
          </p:nvGrpSpPr>
          <p:grpSpPr>
            <a:xfrm>
              <a:off x="1101600" y="696240"/>
              <a:ext cx="6710040" cy="787680"/>
              <a:chOff x="1101600" y="696240"/>
              <a:chExt cx="6710040" cy="787680"/>
            </a:xfrm>
          </p:grpSpPr>
          <p:pic>
            <p:nvPicPr>
              <p:cNvPr id="15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6240"/>
                <a:ext cx="671004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1193760" y="801000"/>
                <a:ext cx="652572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地理定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1146240" y="1682640"/>
            <a:ext cx="6888240" cy="412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157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97172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163" name="AutoShape 12"/>
            <p:cNvSpPr/>
            <p:nvPr/>
          </p:nvSpPr>
          <p:spPr>
            <a:xfrm>
              <a:off x="1315080" y="2997360"/>
              <a:ext cx="6584040" cy="64548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AutoShape 3"/>
            <p:cNvGrpSpPr/>
            <p:nvPr/>
          </p:nvGrpSpPr>
          <p:grpSpPr>
            <a:xfrm>
              <a:off x="1246320" y="2999880"/>
              <a:ext cx="6710040" cy="789120"/>
              <a:chOff x="1246320" y="2999880"/>
              <a:chExt cx="6710040" cy="789120"/>
            </a:xfrm>
          </p:grpSpPr>
          <p:pic>
            <p:nvPicPr>
              <p:cNvPr id="165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9880"/>
                <a:ext cx="6710040" cy="78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336680" y="3104640"/>
                <a:ext cx="6525720" cy="42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Geolocation  API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168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31"/>
          <p:cNvGrpSpPr/>
          <p:nvPr/>
        </p:nvGrpSpPr>
        <p:grpSpPr>
          <a:xfrm>
            <a:off x="-274680" y="1393920"/>
            <a:ext cx="1101240" cy="4914720"/>
            <a:chOff x="-274680" y="1393920"/>
            <a:chExt cx="1101240" cy="4914720"/>
          </a:xfrm>
        </p:grpSpPr>
        <p:sp>
          <p:nvSpPr>
            <p:cNvPr id="17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同心圆 5"/>
            <p:cNvSpPr/>
            <p:nvPr/>
          </p:nvSpPr>
          <p:spPr>
            <a:xfrm>
              <a:off x="-181080" y="580716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同心圆 6"/>
            <p:cNvGrpSpPr/>
            <p:nvPr/>
          </p:nvGrpSpPr>
          <p:grpSpPr>
            <a:xfrm>
              <a:off x="394560" y="2494080"/>
              <a:ext cx="432000" cy="433440"/>
              <a:chOff x="394560" y="2494080"/>
              <a:chExt cx="432000" cy="433440"/>
            </a:xfrm>
          </p:grpSpPr>
          <p:pic>
            <p:nvPicPr>
              <p:cNvPr id="17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4080"/>
                <a:ext cx="43200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56840" y="2556360"/>
                <a:ext cx="3060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0"/>
          <p:cNvGrpSpPr/>
          <p:nvPr/>
        </p:nvGrpSpPr>
        <p:grpSpPr>
          <a:xfrm>
            <a:off x="8004240" y="1434960"/>
            <a:ext cx="1225440" cy="565200"/>
            <a:chOff x="8004240" y="1434960"/>
            <a:chExt cx="1225440" cy="565200"/>
          </a:xfrm>
        </p:grpSpPr>
        <p:sp>
          <p:nvSpPr>
            <p:cNvPr id="179" name="同心圆 7"/>
            <p:cNvSpPr/>
            <p:nvPr/>
          </p:nvSpPr>
          <p:spPr>
            <a:xfrm>
              <a:off x="8004240" y="156204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同心圆 9"/>
            <p:cNvSpPr/>
            <p:nvPr/>
          </p:nvSpPr>
          <p:spPr>
            <a:xfrm>
              <a:off x="8879040" y="143496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3"/>
          <p:cNvGrpSpPr/>
          <p:nvPr/>
        </p:nvGrpSpPr>
        <p:grpSpPr>
          <a:xfrm>
            <a:off x="1101600" y="692280"/>
            <a:ext cx="6710040" cy="791640"/>
            <a:chOff x="1101600" y="692280"/>
            <a:chExt cx="6710040" cy="791640"/>
          </a:xfrm>
        </p:grpSpPr>
        <p:sp>
          <p:nvSpPr>
            <p:cNvPr id="183" name="AutoShape 14"/>
            <p:cNvSpPr/>
            <p:nvPr/>
          </p:nvSpPr>
          <p:spPr>
            <a:xfrm>
              <a:off x="1172520" y="692280"/>
              <a:ext cx="6583680" cy="6487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AutoShape 3"/>
            <p:cNvGrpSpPr/>
            <p:nvPr/>
          </p:nvGrpSpPr>
          <p:grpSpPr>
            <a:xfrm>
              <a:off x="1101600" y="696240"/>
              <a:ext cx="6710040" cy="787680"/>
              <a:chOff x="1101600" y="696240"/>
              <a:chExt cx="6710040" cy="787680"/>
            </a:xfrm>
          </p:grpSpPr>
          <p:pic>
            <p:nvPicPr>
              <p:cNvPr id="18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6240"/>
                <a:ext cx="671004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1193760" y="801000"/>
                <a:ext cx="652572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Geolocation  API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TextBox 3"/>
          <p:cNvSpPr/>
          <p:nvPr/>
        </p:nvSpPr>
        <p:spPr>
          <a:xfrm>
            <a:off x="1341360" y="200016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cation  A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一全局对象的一个新属性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.geoloc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这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提供了一些关于访问者的浏览器和系统的有用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c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确定使用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址、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数据库、无线网络连接，以及三角定位或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技术的访问者的经度和纬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0:08:14Z</dcterms:created>
  <dc:creator>yk</dc:creator>
  <dc:description/>
  <dc:language>en-US</dc:language>
  <cp:lastModifiedBy>lele</cp:lastModifiedBy>
  <dcterms:modified xsi:type="dcterms:W3CDTF">2013-04-13T08:23:28Z</dcterms:modified>
  <cp:revision>53</cp:revision>
  <dc:subject/>
  <dc:title>幻灯片 1</dc:title>
</cp:coreProperties>
</file>