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AA9-06EB-4BBC-A1AE-FDBC376F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D4E-5342-4C42-A82B-4D148A4A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2D6-0C9A-494C-9C52-B826A5A1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31A-F56C-4730-942A-40EA894F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9DA1-4FA7-4EFD-BC1B-0F806556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9A32-778A-44B5-8289-92EDB427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566A-3AB6-4400-BCA3-6F1596B1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C9AB-AA68-4257-AEC3-1FF482CA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A418-9EA9-48FC-AF47-C8122750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B409-6506-46CF-8D46-67FF46E9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93C3-D25B-4598-99D0-6FC199D3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8FE-E7DA-44A1-BBB9-D10BCF26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6D13-6470-4F83-BE5F-785915B3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3020-35FA-407F-8927-38F20DE3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F4B6-C872-4D46-B794-BBE42972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A43E-AB01-41CC-8933-54171056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2F2D-FE14-4639-B96A-07E6A0A4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B479-D866-42E5-966D-A2A9E2B5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3B3-1239-4F7D-8318-7905FAB5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6CA-5817-40B2-90B7-31EDD278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62A-5F77-4234-A1EC-837C6236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38A-4F38-40E1-9FC9-37270677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F6E-778B-43D1-A6B9-A7A123AB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8D82-258B-4A84-AFD1-8603446B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6410-6424-4B02-9C77-B8C70218C10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FB95-ADA1-4F51-8938-987CC466D72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djzs.com/subject/yuanjiao/dzja/xiaoxue/118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djzs.com/subject/yuanjiao/dzja/xiaoxue/118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060280"/>
            <a:ext cx="6965640" cy="2057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《</a:t>
            </a:r>
            <a:r>
              <a:rPr b="1" lang="zh-CN" sz="6600" spc="-1" strike="noStrike">
                <a:solidFill>
                  <a:srgbClr val="703dff"/>
                </a:solidFill>
                <a:latin typeface="Comic Sans MS"/>
                <a:ea typeface="楷体_GB2312"/>
              </a:rPr>
              <a:t>亡羊补牢</a:t>
            </a:r>
            <a:r>
              <a:rPr b="1" lang="zh-CN" sz="6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》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结   果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8282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从此他的羊再也没丢过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820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此可见：像养羊人这样犯了错误，只要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不算晚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46060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及时改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564000" y="2673360"/>
            <a:ext cx="5580000" cy="41846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5294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实际生活中，也常常发生类似的事，你能举例说说吗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781360"/>
            <a:ext cx="45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亡羊补牢，未为迟也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>
                <a:solidFill>
                  <a:srgbClr val="00b200"/>
                </a:solidFill>
                <a:latin typeface="Comic Sans MS"/>
              </a:rPr>
              <a:t>拓展阅读</a:t>
            </a:r>
            <a:r>
              <a:rPr b="0" i="1" lang="zh-CN" sz="6600" spc="-1" strike="noStrike">
                <a:solidFill>
                  <a:srgbClr val="00b200"/>
                </a:solidFill>
                <a:latin typeface="Comic Sans MS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读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92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页《负荆请罪》和《铁杵磨针》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思考文前小问题。）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>
                <a:solidFill>
                  <a:srgbClr val="00b200"/>
                </a:solidFill>
                <a:latin typeface="Comic Sans MS"/>
              </a:rPr>
              <a:t>写话练习</a:t>
            </a:r>
            <a:r>
              <a:rPr b="0" i="1" lang="zh-CN" sz="6600" spc="-1" strike="noStrike">
                <a:solidFill>
                  <a:srgbClr val="00b200"/>
                </a:solidFill>
                <a:latin typeface="Comic Sans MS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选择其中一个话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选择本课生字新词写出故事内容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话题二、由《亡羊补牢》想到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2060280"/>
            <a:ext cx="6965640" cy="2057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《南辕北辙》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003640" y="4581360"/>
            <a:ext cx="216000" cy="1079640"/>
          </a:xfrm>
          <a:prstGeom prst="upArrow">
            <a:avLst>
              <a:gd name="adj1" fmla="val 50000"/>
              <a:gd name="adj2" fmla="val 12495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5535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61200"/>
                </a:solidFill>
                <a:latin typeface="Comic Sans MS"/>
                <a:ea typeface="楷体_GB2312"/>
              </a:rPr>
              <a:t>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77880" y="404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辕：车前头架在牲口上的两根长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150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514440" y="-266760"/>
            <a:ext cx="10172880" cy="7391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451640" y="3429000"/>
            <a:ext cx="647640" cy="216000"/>
          </a:xfrm>
          <a:prstGeom prst="leftArrow">
            <a:avLst>
              <a:gd name="adj1" fmla="val 50000"/>
              <a:gd name="adj2" fmla="val 7495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3440" y="2997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5950080"/>
            <a:ext cx="50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辙：车轮碾过的痕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《南辕北辙》讲了一个怎样的故事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716360" y="1989000"/>
            <a:ext cx="370692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ē  f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街  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4653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03dff"/>
                </a:solidFill>
                <a:latin typeface="Arial"/>
              </a:rPr>
              <a:t>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51280" y="4076640"/>
            <a:ext cx="3959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dff"/>
                </a:solidFill>
                <a:latin typeface="Arial"/>
              </a:rPr>
              <a:t>quān    juà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dff"/>
                </a:solidFill>
                <a:latin typeface="Arial"/>
              </a:rPr>
              <a:t>圆圈     羊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1916280"/>
            <a:ext cx="37069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ū   l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窟  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dff"/>
                </a:solidFill>
                <a:latin typeface="Comic Sans MS"/>
                <a:ea typeface="楷体_GB2312"/>
              </a:rPr>
              <a:t>盘缠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dff"/>
                </a:solidFill>
                <a:latin typeface="Comic Sans MS"/>
                <a:ea typeface="楷体_GB2312"/>
              </a:rPr>
              <a:t>硬要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1803240"/>
            <a:ext cx="15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61200"/>
                </a:solidFill>
                <a:latin typeface="Comic Sans MS"/>
                <a:ea typeface="楷体_GB2312"/>
              </a:rPr>
              <a:t>路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87640" y="335772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61200"/>
                </a:solidFill>
                <a:latin typeface="Comic Sans MS"/>
                <a:ea typeface="楷体_GB2312"/>
              </a:rPr>
              <a:t>一定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769608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《南辕北辙》中，那个人是怎么想怎么说的？他的朋友又是怎么说的？请你找出他们之间一共发生了几次对话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703d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楚国在南边，你怎么往北走呀？”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没关系，我的马跑得快。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703d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马跑得越快，离楚国不是越远了吗？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没关系，我的车夫是个好把式！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703d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那你哪一天才能到楚国呀！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没关系，不怕时间久，我带的盘缠多。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703d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楚国在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南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边，你怎么往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北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走呀？”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没关系，我的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马跑得快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703d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马跑得越快，离楚国不是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越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了吗？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没关系，我的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车夫是个好把式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703d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那你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哪一天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才能到楚国呀！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没关系，不怕时间久，我带的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盘缠多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703d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楚国在南边，你怎么往北走呀？”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没关系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，我的马跑得快。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703d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马跑得越快，离楚国不是越远了吗？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没关系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，我的车夫是个好把式！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703d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那你哪一天才能到楚国呀！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没关系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，不怕时间久，我带的盘缠多。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7696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他的朋友劝了那个人三次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那个人接受了吗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像他这样总是顽固地坚持自己的想法而不听别人意见的人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我们用一个成语形容他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叫什么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4137120"/>
            <a:ext cx="75596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7696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他的朋友劝了那个人三次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那个人接受了吗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像他这样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总是顽固地坚持自己的想法而不听别人意见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的人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我们用一个成语形容他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叫什么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4137120"/>
            <a:ext cx="75596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3213000"/>
            <a:ext cx="216000" cy="2087640"/>
          </a:xfrm>
          <a:prstGeom prst="upArrow">
            <a:avLst>
              <a:gd name="adj1" fmla="val 50000"/>
              <a:gd name="adj2" fmla="val 24162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68360" y="551664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固 执 己 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703d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楚国在南边，你怎么往北走呀？”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没关系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，我的马跑得快。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703d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马跑得越快，离楚国不是越远了吗？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没关系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，我的车夫是个好把式！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130000"/>
              </a:lnSpc>
              <a:spcBef>
                <a:spcPts val="799"/>
              </a:spcBef>
              <a:buClr>
                <a:srgbClr val="703d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“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那你哪一天才能到楚国呀！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61200"/>
                </a:solidFill>
                <a:latin typeface="楷体_GB2312"/>
                <a:ea typeface="楷体_GB2312"/>
              </a:rPr>
              <a:t>没关系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，不怕时间久，我带的盘缠多。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  <a:ea typeface="楷体_GB2312"/>
              </a:rPr>
              <a:t>楚国在南边，他硬要往北边走。他的马越好，赶车的本领越大，盘缠带得越多，走得越远，就越到不了楚国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620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他能到得了楚国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514440" y="-266760"/>
            <a:ext cx="10172880" cy="73915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-181080" y="26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dff"/>
                </a:solidFill>
                <a:latin typeface="Arial"/>
                <a:ea typeface="楷体_GB2312"/>
              </a:rPr>
              <a:t>他以后会怎么样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03640" y="595008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dff"/>
                </a:solidFill>
                <a:latin typeface="Arial"/>
                <a:ea typeface="楷体_GB2312"/>
              </a:rPr>
              <a:t>你受到什么启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朗读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4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，想一想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养羊人丢了一只羊，为什么还会丢第二只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246384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342900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﹒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羊圈</a:t>
            </a:r>
            <a:r>
              <a:rPr b="0" lang="zh-CN" sz="48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个窟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479736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﹒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街坊</a:t>
            </a:r>
            <a:r>
              <a:rPr b="0" lang="zh-CN" sz="4800" spc="-1" strike="noStrike" u="sng">
                <a:solidFill>
                  <a:srgbClr val="00b200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劝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不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我明白了：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45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703dff"/>
                </a:solidFill>
                <a:latin typeface="Comic Sans MS"/>
                <a:ea typeface="楷体_GB2312"/>
              </a:rPr>
              <a:t>方向错了，永远也到不了目的地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514440" y="-266760"/>
            <a:ext cx="10172880" cy="7391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-181080" y="-243000"/>
            <a:ext cx="684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，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世纪，南辕北辙一定是错误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请看《“南辕北辙”新解》和《又说“南辕北辙”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12800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b200"/>
                </a:solidFill>
                <a:latin typeface="Comic Sans MS"/>
              </a:rPr>
              <a:t>写话练习</a:t>
            </a:r>
            <a:br>
              <a:rPr sz="5400"/>
            </a:br>
            <a:r>
              <a:rPr b="0" i="1" lang="zh-CN" sz="4000" spc="-1" strike="noStrike">
                <a:solidFill>
                  <a:srgbClr val="000000"/>
                </a:solidFill>
                <a:latin typeface="Comic Sans MS"/>
              </a:rPr>
              <a:t>（选择其中一个话题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7704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  写写你身边“南辕北辙”的事情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  小练笔：我从某个寓言故事想到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10920" y="1052640"/>
            <a:ext cx="79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原来羊圈破了个窟窿，夜里狼从窟窿钻进去，把那只羊叼走了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667640" y="5805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10800"/>
                </a:moveTo>
                <a:lnTo>
                  <a:pt x="19374" y="3794"/>
                </a:lnTo>
                <a:lnTo>
                  <a:pt x="1937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7704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街坊劝他说：“赶快把羊圈修一修，堵上那个窟窿吧。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3357720"/>
            <a:ext cx="727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他说：“羊已经丢了，还修羊圈干什么呢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19928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结   果：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早上，他去放羊，发现羊又少了一只。原来狼又从窟窿钻进去，把羊叼走了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2924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1200"/>
                </a:solidFill>
                <a:latin typeface="Arial"/>
                <a:ea typeface="楷体_GB2312"/>
              </a:rPr>
              <a:t>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294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61200"/>
                </a:solidFill>
                <a:latin typeface="Arial"/>
                <a:ea typeface="楷体_GB2312"/>
              </a:rPr>
              <a:t>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想一想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64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第二次丢羊后，养羊人又是怎么想、怎么做的？（划出相关句子）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5013360"/>
            <a:ext cx="8569440" cy="1844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他赶快堵上那个窟窿，把羊圈修得结结实实的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他很后悔，不该不接受街坊的劝告，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心想，现在修还不晚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2T16:00:29Z</dcterms:created>
  <dc:creator>Administrators</dc:creator>
  <dc:description/>
  <dc:language>en-US</dc:language>
  <cp:lastModifiedBy>User</cp:lastModifiedBy>
  <dcterms:modified xsi:type="dcterms:W3CDTF">2013-03-18T13:33:49Z</dcterms:modified>
  <cp:revision>25</cp:revision>
  <dc:subject/>
  <dc:title>幻灯片 1</dc:title>
</cp:coreProperties>
</file>