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3F8-3E70-4AEE-8199-FE47F360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251-8825-40B8-9276-96FF140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951-09EB-4FEC-BB97-77BB49EC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B22-C899-40BF-B566-4FDE1DF1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1E9-0CFD-43C5-96E4-98DBFF64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6676-2FA5-415C-9110-53AC2A4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496-A48A-4B27-B0F2-EDE21546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0DC3-4B3C-4D77-B9A5-43E21204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3CDD-386A-4D97-9B1A-D35B767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29320" y="2458440"/>
            <a:ext cx="403848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E7EB-0B72-4C5C-8F69-6DA8EAB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A2E-8338-413C-95F8-1118F99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E2B-797B-45C4-B13A-0F2A29B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F264-0224-46BE-94E6-ADED84D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D78B-EEAF-4E57-B6E9-827B73B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8EC-059A-42E9-AC2F-44DAEF7D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7A7-CF6F-4782-A30A-320F0A21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5CFD-3EC7-48AE-AE65-A1A0D463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4C4-2BF9-450B-B498-4DCDFFD0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B23-341A-4CFA-92D3-D99B18CD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F52-700F-43F8-BF2B-EEEB6D1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29320" y="2458440"/>
            <a:ext cx="403848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795-D86A-4B6C-A3A9-CCB899A3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3A9-6313-412F-95A5-DF2B0B8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0F9-9DE7-42E1-948A-6D8DBAD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29320" y="245844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A7E-C542-42D9-856B-3A663D9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76B-A999-49A1-B5CC-74E75762F1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1060000">
            <a:off x="1219320" y="213336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EFBC-EF69-4948-B959-BCB08B4EA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403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0574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www.pptbz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7-20T23:00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